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330-4C32-414F-AD11-89DF9872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520" y="396432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168-EA48-4DDC-B03B-F201A711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2624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520" y="396432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26240" y="396432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A69-5F7A-40C5-BFA4-9AD46F98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3120" y="16002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7080" y="16002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520" y="396432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03120" y="396432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7080" y="396432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BEF-422B-4AB2-8144-BAD3DCEA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48C-F221-4C92-873D-AB54F85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4A2-27FD-44DF-9AEC-6BDCC3B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26240" y="160020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EE6-D071-43E4-915B-00DDCD47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556-419C-4EC5-B3E9-8829E77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520" y="27432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477-145D-4518-A2DF-FD343E45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26240" y="160020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520" y="396432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F45-D8E5-4BE8-B6EE-CD53E01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2624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26240" y="396432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484-6A59-4C20-AAB3-94F87D2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26240" y="16002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520" y="396432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2B7-CA27-49AC-AA10-A034DF03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Nan\AppData\Local\Microsoft\Windows\Temporary Internet Files\Content.IE5\6QG0YAYF\MPj04228490000[1].jpg"/>
          <p:cNvPicPr/>
          <p:nvPr/>
        </p:nvPicPr>
        <p:blipFill>
          <a:blip r:embed="rId2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C91-C6AB-4E31-8CF2-BA369E788C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57440" y="457200"/>
            <a:ext cx="35053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giving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57440" y="32767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19:53Z</dcterms:created>
  <dc:creator>Nandini Shastry</dc:creator>
  <dc:description/>
  <dc:language>en-US</dc:language>
  <cp:lastModifiedBy>Nandini Shastry</cp:lastModifiedBy>
  <dcterms:modified xsi:type="dcterms:W3CDTF">2009-11-24T17:32:10Z</dcterms:modified>
  <cp:revision>8</cp:revision>
  <dc:subject/>
  <dc:title>Thanksgiving Day 2009</dc:title>
</cp:coreProperties>
</file>