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39E-ECAD-41B5-8BE6-B6ECC12C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5032-2B1A-4ED8-87B6-DFB4AF21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969B-995A-4885-9AD5-9E7692AB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17E1-268E-4E6D-9BD6-183113A4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1284-498C-4421-A888-384FF83C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A557-595F-492F-A5D0-594CE49F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3DC2-C711-4D3C-A482-BF24738A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73DF-C84E-49FC-BB20-F76BE240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588B-280B-44E6-93C0-D828A0C3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2B12-0309-4493-A5FC-0343E6DC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3600-2AE9-473C-963C-9C290D34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992-62E7-4EB2-9568-BC922508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4D78-076F-4AA1-8FA1-B47B9AA989E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680" y="662904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6960" y="6629040"/>
            <a:ext cx="1066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D687-0624-4C41-9914-A0ABBB795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oice of the Customer I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80880" y="46483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al Font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358-C79F-4680-A20E-CDF1902902B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B0FA9-0347-4E27-BE92-3B927363CF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4T01:15:13Z</dcterms:created>
  <dc:creator>Nan Shastry</dc:creator>
  <dc:description/>
  <dc:language>en-US</dc:language>
  <cp:lastModifiedBy>Nan Shastry</cp:lastModifiedBy>
  <dcterms:modified xsi:type="dcterms:W3CDTF">2004-01-04T01:15:29Z</dcterms:modified>
  <cp:revision>1</cp:revision>
  <dc:subject/>
  <dc:title>Voice of the Customer II</dc:title>
</cp:coreProperties>
</file>