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F29-19F1-4C28-AAD8-418114A7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3D2-87E9-40F4-96A5-8937C5D3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886-3D14-435D-86E8-D8E12FE2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178-AF7C-4698-B43B-9773EFFA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C93-B042-4F30-BBDF-E1672308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44D-9D3F-43C6-8683-31CAE0E6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33C-3459-4738-9191-719526CE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F61-1E87-48CB-B514-F9EBD788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0E6-61B3-4ECC-A775-94E550F0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1B0-4BF3-4E9E-B911-7368C5F5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81E-BFB1-4200-BCE5-703C281D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E32-C0A9-4213-B3BA-D3D0C529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0" y="3595680"/>
            <a:ext cx="4572000" cy="3262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3A8F-5C84-43B1-B2BB-DE22FD5FD6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680" y="662904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69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E389-FC9F-4F98-BE22-D34038DB3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572000" cy="3262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4280" y="380880"/>
            <a:ext cx="4114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24280" y="380880"/>
            <a:ext cx="4114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ice of the Customer II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80880" y="4648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al Font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E72-94B6-4C38-8F15-19F8FCDE92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5A154-1522-410C-B7EC-E2473AE4B1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01:15:40Z</dcterms:created>
  <dc:creator>Nan Shastry</dc:creator>
  <dc:description/>
  <dc:language>en-US</dc:language>
  <cp:lastModifiedBy>Nan Shastry</cp:lastModifiedBy>
  <dcterms:modified xsi:type="dcterms:W3CDTF">2004-01-04T01:15:52Z</dcterms:modified>
  <cp:revision>1</cp:revision>
  <dc:subject/>
  <dc:title>Voice of the Customer III</dc:title>
</cp:coreProperties>
</file>