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4F9-5437-4DAB-AE60-845D4756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BAB-0A7D-4E06-AD3A-B0A35188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B55-ADAF-4578-BD46-CDBAFFC0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DBB-F3FD-462A-8FE5-658EF5A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574-8EC7-4B62-9C77-6295D60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4BE-8614-4EB2-BBD0-E282BDC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DC3-2740-42C7-9296-5A0991F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842-ADF7-4406-A007-A2191FF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17F-A602-4453-9378-6EAC10C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784-E649-4396-881C-3811557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2A8-A027-4061-8AD6-E676DA3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D46-1322-4084-AE74-72EEDD6B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0AE3-C22D-43FD-84A3-3DA45ECD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wis721 Ex BT"/>
              </a:rPr>
              <a:t>Your Titl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nshastry</cp:lastModifiedBy>
  <dcterms:modified xsi:type="dcterms:W3CDTF">2001-02-20T11:48:52Z</dcterms:modified>
  <cp:revision>1</cp:revision>
  <dc:subject/>
  <dc:title>Your Title Here</dc:title>
</cp:coreProperties>
</file>