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9EC-A7B3-4C12-82AE-A04AD643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CB2-1504-4E30-B8AD-6EC345C4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9E5-7B7B-404A-B671-2A255848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75A-831F-4533-8070-04598A9F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D7D-8043-4216-9042-17EE9864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4F2D-CECB-442C-A143-D4AA8CB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D4AE-28D7-4EB7-8382-7222BB5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DA0-EAAA-4246-BB7F-4C84BB7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6FF0-B9CE-4A4F-BBD8-D950A3C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F05D-4D3A-4C1B-8381-97C5377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B10-53EA-45E8-B742-194A6DE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8BC-463C-4038-B3E6-20C79303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E32-5EA1-4A3A-845F-D5E1DD97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DC5-A30E-4A46-B309-907CBBD1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7F9D-63EB-43A1-B68A-CD47C78F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3F9C-B94A-4CC2-890F-FB7CCF13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9180-5CA9-4AC9-9E5F-449E3C6E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9AA-9816-4712-BD62-13AC22D7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CCD-405E-478C-8D46-FE604FD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4C2-BEE0-4649-952F-4D72FDF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5BD-1EB2-4F75-9855-2CE6366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B71-B6BD-46B4-989A-E7063CC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FAA-2564-4E4B-BACE-2910095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9B4-5FFB-47A3-8FF7-0CC0193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1BE-93DD-4CD5-AC17-E3ADF083696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D89-391E-45EE-B6E3-6EF645521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4ED-56C7-49A3-B4EC-BF01C8B8ED7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B47-69D7-444D-BA45-9958C03809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Apple Green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E63-49A6-429A-B774-2124C015DB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26994-ACEE-456F-A697-712A6D46D0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19:58:40Z</dcterms:modified>
  <cp:revision>1</cp:revision>
  <dc:subject/>
  <dc:title>Beveled Slide Style</dc:title>
</cp:coreProperties>
</file>