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1E1-93CD-4BB2-8D5D-221F9336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E92-B966-4EF6-ADC0-A688F502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C88-B658-4E2E-A8A2-71C96E7A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927-AD3A-4838-8E3A-51483E5D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7DA5-71A6-4A7E-8F7A-58813140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7019-FA29-4075-AF51-8D141854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369B-31A8-4FCD-90FE-96F33E89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EAC4-F5E5-49F1-A436-DB7B527C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4D53-0C08-4EFA-93F8-2742FA64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052D-AABC-4B34-BE74-FD13FF5B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2731-F830-45F4-A444-49B229AB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164-E192-4D41-8E9D-6CFFF8EE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7499-E2B2-405C-83D6-5027B1F7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4685-DF0F-4F32-9EF4-1FCC176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D78E-8207-4B8B-A597-2AC8D461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21B6-29A2-44D5-AC85-03B73F20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CBFD-547D-4C55-9F4D-C31B1B4F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152-718A-48DB-8932-1106B12C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4A8-9DE0-462F-ADA9-C1482995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6F2-B82D-4D07-B319-F44F56E8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487-AC82-48F8-BEB0-05616831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753-B0B0-42CB-A74B-9CD4ABFB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196-F372-49B7-A87B-39CE441F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93A-07DB-488F-A77F-D2B295A1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1D81-D4A3-4866-B7CE-4CD83E832CB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B053-D120-490C-A8BA-8F1C2A600B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CD86-23F7-4348-8FD7-1071FE79702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A0E5-1937-40C8-9025-E2036EB92E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Mandarin Orange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4C8-0EA1-41D9-AED1-B54563143C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468CC-B637-44F0-80DF-DFA8E647FD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19:59:27Z</dcterms:modified>
  <cp:revision>2</cp:revision>
  <dc:subject/>
  <dc:title>Beveled Slide Style</dc:title>
</cp:coreProperties>
</file>