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947-424C-4737-B366-58531A5F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4B8-F746-43A8-865E-F544ADDC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A2F-940E-4554-A73F-4EC4BEE2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F9E-F404-4DDD-B653-2C9C241F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2BB-ED62-4AED-86B7-515A3A1C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BA6-7797-4591-B3C0-FFEA1667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1E34-4F2A-4684-BF86-574D61A5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A152-B044-4E32-9DA4-D62189A7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1A70-F6AA-4525-87D3-BBA5102E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2E92-51EF-47A5-BCE5-EAB5E9A8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8D3A-5467-4C3D-82EA-2DEF329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A25-C6B8-4D0D-A15B-D0FADB7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D44F-E0D0-40F6-ADF5-FDD6E0AF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6341-90C1-46FA-B608-2BE0F340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F7AC-984C-4381-AE3E-DC7ABB34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AB9A-58E7-4214-9D0B-63A9B364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5047-DE0B-429F-9DEA-84D194BE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249-9290-4C7E-9AE5-A59043C8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198-40D0-4584-A94A-1FBA93C2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0AE-AADC-4A6E-A73A-2FD6E9BA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B15-78C4-4EB4-B563-FFBF00D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A51-D8C6-4C36-B43F-5454786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113-095B-47B3-B5E6-4D5D016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614-E90B-4C7B-8751-7B18B74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147E-1E85-4656-BD71-C836A314AB6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673-AC97-43E1-B8A0-6F24D64A62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130-8F81-4BE1-BB8D-A80C5CA8E87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6A9C-AA28-4080-974B-3DAB372BFC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reamed Corn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111-CD31-44F0-B482-17367164EF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97CC3-5660-4617-BB50-43DBCA7100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00:14Z</dcterms:modified>
  <cp:revision>3</cp:revision>
  <dc:subject/>
  <dc:title>Beveled Slide Style</dc:title>
</cp:coreProperties>
</file>