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92647-BDD3-45AD-993A-89D9F3C56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1072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E7CF3-8F01-4678-8CDE-7369C1197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70F9F-5305-4E03-922B-D269AF42E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1072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41072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41072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FE101-3817-483D-B1E2-921746863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7326F-2BF7-4AB8-A521-2614A29B4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18629-0E9B-445C-A158-AEB689593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D3EEE-0213-47B7-878E-A38CF6371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BB453-89B4-4ED5-B74A-2AEE0AEA5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50A9B-C4F6-41AD-9D53-E6C6F3294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982F8-0A8E-4D01-91FB-22A39CF95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2FB7A-0AB3-455A-9176-A971DECCA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F4355-ABB7-4BC2-AFF2-C8659AEBE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31ACA-1AE3-47D2-8E11-ABF381511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1072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ECF9E-1F3A-479F-9446-8D0EEE635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41072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D1A03-571D-420E-AFFE-607096314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812A8-C811-45FA-8666-DAA1B940C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41072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41072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41072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61461-367C-453A-AC09-3654A3839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61331-B3CE-452D-9218-D53564B77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40F8D-199F-4F0D-B754-F869DE402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2B0E1-5E23-4AC5-A815-6C24BB63B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D3C52-005F-4EB1-A633-D7402545E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93AC4-F135-45AB-A431-C2E6E8974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EFB4C-2148-447F-899E-9E6DAD7D9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1072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7001F-3023-4EF1-AF42-67BB8A837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4306"/>
            </a:avLst>
          </a:prstGeom>
          <a:solidFill>
            <a:srgbClr val="3366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ndy"/>
              </a:rPr>
              <a:t>Click to edit the title text format</a:t>
            </a:r>
            <a:endParaRPr b="1" lang="en-US" sz="54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ndy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ndy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ndy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ndy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ndy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ndy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ndy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ndy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ndy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ndy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ndy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ndy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ndy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ndy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ndy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ndy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ndy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ndy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629040"/>
            <a:ext cx="2133720" cy="228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3EB0F-50D6-4280-92AA-58BBB0B82215}" type="datetime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666880" y="6629040"/>
            <a:ext cx="3810240" cy="228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629040" y="6552720"/>
            <a:ext cx="2133720" cy="30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334BF-E533-4C97-B752-A7388CABB39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16574"/>
            </a:avLst>
          </a:prstGeom>
          <a:solidFill>
            <a:srgbClr val="33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371600" y="1523880"/>
            <a:ext cx="6324480" cy="20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ndy"/>
              </a:rPr>
              <a:t>Click to edit the title text format</a:t>
            </a:r>
            <a:endParaRPr b="1" lang="en-US" sz="66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D327C-06DA-414A-BB13-823544205856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1816D-2DAA-4A50-ADD5-373039C0A7A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ndy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ndy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ndy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ndy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ndy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ndy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ndy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ndy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ndy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ndy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Andy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ndy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ndy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ndy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ndy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ndy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ndy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ndy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ndy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371600" y="1523880"/>
            <a:ext cx="6324480" cy="20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ndy"/>
              </a:rPr>
              <a:t>Beveled Slide Style</a:t>
            </a:r>
            <a:endParaRPr b="1" lang="en-US" sz="66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434304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ndy"/>
              </a:rPr>
              <a:t>Swimming Pool</a:t>
            </a:r>
            <a:endParaRPr b="0" lang="en-US" sz="4000" spc="-1" strike="noStrike">
              <a:solidFill>
                <a:srgbClr val="ffffff"/>
              </a:solidFill>
              <a:latin typeface="Andy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69640"/>
            <a:ext cx="8229600" cy="115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4680" rIns="9468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4680" rIns="94680" tIns="51480" bIns="514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ndy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821F6-29C0-4AFA-ACB7-1DC1922B3511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FE1BB7-52FC-45CC-98FE-F901F3C4D84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5T19:52:32Z</dcterms:created>
  <dc:creator>Nan Shastry</dc:creator>
  <dc:description/>
  <dc:language>en-US</dc:language>
  <cp:lastModifiedBy>Nan Shastry</cp:lastModifiedBy>
  <dcterms:modified xsi:type="dcterms:W3CDTF">2006-06-05T20:01:19Z</dcterms:modified>
  <cp:revision>4</cp:revision>
  <dc:subject/>
  <dc:title>Beveled Slide Style</dc:title>
</cp:coreProperties>
</file>