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AC4-B839-4BCE-9861-A3B5D010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301-43AA-444B-B3B8-57611AB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C6A-1595-43F7-8FFA-9DCFE787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CA9-3B9A-482E-A777-E8A24C27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A98A-EE4D-4BF8-8291-AFC8655D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B59F-8102-4887-A5DC-50FF073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607-EC08-4846-91AD-28B10FCC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EDC6-C296-4DC2-9B3E-B55A8C68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0AA3-C7DB-4475-9192-F3CBCCD4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A90-CB7E-4A1A-B36B-E3550B1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4EA5-FAC5-4ED4-9A46-A7AB9D6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D69-E1B1-4B9E-A721-87F8807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0172-E45E-41F3-A083-380ABD6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78B-1354-4E05-8E75-BF5E6CF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B3FA-44ED-46FE-A799-8886AD5C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682-E29B-423A-B590-420F0821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EDB-B23C-4097-8346-8DD15D0D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1B6-E24A-458D-98E1-919CC96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766-6385-4482-8C87-F693892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AFA-5E32-4BDE-9BE6-0521711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3DD-C9FE-4804-A6F2-332302B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72F-0A4E-4B94-9F96-87BC020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0DF-7A3E-4D87-A207-EF485FA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F5E-4EE4-41C9-9369-C70FB64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8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73D5-EB75-4210-A244-1B69628C73B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921-241B-4FEE-84DD-AE6075BC70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9C0E-12C8-4389-BA53-165B2666F7D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157B-D9DA-40FA-9781-3738932EE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dy"/>
              </a:rPr>
              <a:t>Simply Maroon</a:t>
            </a:r>
            <a:endParaRPr b="0" lang="en-US" sz="4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D77-6D0B-4E74-93F2-95FAB0786F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A0808-F73E-4D44-9EFF-325BDA9BD9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02:16Z</dcterms:modified>
  <cp:revision>5</cp:revision>
  <dc:subject/>
  <dc:title>Beveled Slide Style</dc:title>
</cp:coreProperties>
</file>