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57D-B201-4E8D-97E9-C3F0DCBC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886-00AE-4E8D-9269-7EC8E73D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240-3CAB-4240-BA27-CF75ED57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27E9-C6D7-4DC4-AC41-DAECEBAC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DA89-49CD-4144-B120-8E93CEC7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FD25-F7B7-49C3-9247-A82BAB5E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2117-4BF1-4A0C-B6FB-51D634ED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1718-084D-436F-8AC4-D08A6910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CC4B-E846-4484-952A-DBE2F152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1E0D-1AEB-4209-95AA-D4338980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88BB-DBF6-4A46-91BF-DD9602BF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4744-A8AA-4D2C-A302-952E115A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086D-3A31-4A5F-85EE-D198A915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7B43-C584-4AEA-BAC3-689799D3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0835-B860-4739-8A0D-872072E8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7504-5AF4-466B-852F-2108D84D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2C70-EEDD-4D0B-8B65-77FB8C22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44E-71BE-4B3E-B8B0-52C01A27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282-2D22-4125-81CA-F5A74EA7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8DC-627D-41D1-8A2A-35603769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586-200D-444F-850C-256B6A8B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ABF-34CA-4B5C-BA1D-1D192CFF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C60-2902-4B0A-8941-3BEB5BC7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A1F-C17B-4753-AEBD-7609351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6666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A236-10B8-4652-8784-9D3E14ADCE3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547D-4053-4ECB-964C-0F96636BD7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943B-6084-4CCD-9337-651938619C8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0F72-365E-4191-8DC4-ED14419945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ndy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ndy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ndy"/>
              </a:rPr>
              <a:t>Beveled Slide Style</a:t>
            </a:r>
            <a:endParaRPr b="1" lang="en-US" sz="66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dy"/>
              </a:rPr>
              <a:t>Grape Seed </a:t>
            </a:r>
            <a:endParaRPr b="0" lang="en-US" sz="40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5B9-E3FB-4A3D-BEE5-E1C64A78B6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2A5AD-134F-4EB2-8C7A-A913392EE0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Nan Shastry</cp:lastModifiedBy>
  <dcterms:modified xsi:type="dcterms:W3CDTF">2006-06-05T20:03:10Z</dcterms:modified>
  <cp:revision>6</cp:revision>
  <dc:subject/>
  <dc:title>Beveled Slide Style</dc:title>
</cp:coreProperties>
</file>