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BF9E-E581-4496-B562-BD65ADA71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60A0-5AF5-4B5C-8140-E17794525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9CD2-D116-48A5-A430-F7595B355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B5BD-DF33-4F34-BCBC-34E7F2114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120D8-A786-4C85-A908-3EDE968FE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4ABC0-F40B-4EBF-8B5E-F733E5E16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1E61E-4974-48E2-B611-EEFC9FEEC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B87AA-92DB-43DE-A540-FF8350D1A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DDCB7-5EC2-4F71-874B-95F276405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26AEC-1FAC-4BFD-8841-7CDC7670A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6C0AF-6C65-4C54-94D5-ADBDDBC7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4A72-FB67-4A84-BC31-7D4D60CA4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B059E-CF0C-4B86-A227-8179AFA6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A1E21-787D-4A4C-9472-B516C312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74B96-6E92-4C60-B615-B2F893967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36A6F-7526-4575-A5BE-AF72E0433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A556B-FDCF-43EE-B124-6E35B889D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07B7-16BF-4195-8385-62F033E0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E28B-A177-4FC1-A1F5-891D947CE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5057-209A-4161-B37D-5794D686B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4AB3-EE6F-4700-8B10-DC9883603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8237-6BE5-4ADA-9864-3B6A063D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85AE-C7DE-4F5F-AD46-1320A5D6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C0F2-EE83-440B-9236-B4BB7B2E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306"/>
            </a:avLst>
          </a:prstGeom>
          <a:solidFill>
            <a:srgbClr val="33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ndy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B1C9-EFFB-40C2-ADA8-6AE2A945A699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666880" y="6629040"/>
            <a:ext cx="3810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629040" y="655272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96A27-52B7-4F1A-901B-ECF32589CD0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6574"/>
            </a:avLst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1523880"/>
            <a:ext cx="6324480" cy="20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ndy"/>
              </a:rPr>
              <a:t>Click to edit the title text format</a:t>
            </a:r>
            <a:endParaRPr b="1" lang="en-US" sz="6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4BE94-2518-4BC5-9E9E-109E22ED8839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9A03D-78C7-40BB-BB8B-837EE86970B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y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ndy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ndy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y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ndy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ndy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y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ndy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ndy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y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ndy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y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ndy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y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ndy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600" y="1523880"/>
            <a:ext cx="6324480" cy="20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ndy"/>
              </a:rPr>
              <a:t>Beveled Slide Style</a:t>
            </a:r>
            <a:endParaRPr b="1" lang="en-US" sz="6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y"/>
              </a:rPr>
              <a:t>Life Aquatic</a:t>
            </a: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3F78-A8C4-4ADA-89DE-36B0BA76D1A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471075-A3F2-4E75-B501-01388BD53C0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5T19:52:32Z</dcterms:created>
  <dc:creator>Nan Shastry</dc:creator>
  <dc:description/>
  <dc:language>en-US</dc:language>
  <cp:lastModifiedBy>Nan Shastry</cp:lastModifiedBy>
  <dcterms:modified xsi:type="dcterms:W3CDTF">2006-06-05T20:04:30Z</dcterms:modified>
  <cp:revision>7</cp:revision>
  <dc:subject/>
  <dc:title>Beveled Slide Style</dc:title>
</cp:coreProperties>
</file>