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72E-E3F6-437E-BC64-ED02709F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F4B-BC87-4D1B-9949-BB6F4A9E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85D-B338-4A58-B614-6A12EE6D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829-CED6-47CD-9FA9-E17068E8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1899-C34A-4087-BF54-46276DA3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0A29-5B89-4BCA-8C0B-D8D8422E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2E43-8074-4F8D-BC8A-ADDD026D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AAE0-DEFF-411A-AB33-6CC4A95C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18C6-4125-4269-BD4F-7D5BCAEB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6F96-0563-4B56-9A86-FDA843AD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F0AD-7599-40C0-8649-86DB8C15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EC4-4074-44B5-A535-7DCF9F8C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9933-E8DD-4FC4-A059-34C3ACE2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8871-9D2F-4D5E-9F18-2BC8A94E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A11B-4E7B-484B-977C-9CAFAE25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5536-936C-4444-A8F2-786CFF50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7C3E-97C7-4175-9692-BC92EF56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96F-C26E-4D7B-8A57-736CCE99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D7B-5224-4950-8CBE-77BE2075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50C-5AA5-4F17-8F00-4E392B22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767-FEF3-4156-A8E7-1A1E5420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764-6843-49D9-9C46-4E3D4AC0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A1A-1277-429E-AA4F-9745D6BD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242-C935-413C-84DE-AE2B6E4A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14DD-4493-4957-82FA-0677FD57942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A63E-CD79-45D7-8B2B-14AE1FC956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5E0C-6E1F-476B-87EB-12E6DA1A634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957D-8754-4EA1-9965-D52F646C71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Beveled Slide Style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Roses Roses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205-8EBB-47BA-B1C3-F1A6208B2F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F5415-1F00-47D9-AC40-AA3EE21DAA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Nan Shastry</cp:lastModifiedBy>
  <dcterms:modified xsi:type="dcterms:W3CDTF">2006-06-05T20:05:06Z</dcterms:modified>
  <cp:revision>8</cp:revision>
  <dc:subject/>
  <dc:title>Beveled Slide Style</dc:title>
</cp:coreProperties>
</file>