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1C8-4594-418E-9580-22BD30AA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A43-33CB-417E-83A7-F39CC04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5D0-C6EE-427F-BA66-72D7B2A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3CB-4BB3-45E7-92D6-D0AFD185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79E-6957-40B4-8163-ECF9C128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9731-C336-4440-9B99-F3E5B7B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6CB-9D13-4638-8588-556D29A5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942F-DF83-4801-9554-BDAF962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6A2F-7395-4B02-B29B-D5A57D7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8E7B-D9C7-4E33-95CB-3AEAEDF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D80D-F146-4FB4-9D35-49F7827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1DD-150B-4E44-9B47-CC001EC0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254-F55C-4B2A-A752-F107424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CB64-423E-40D3-A72D-B01F282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CC2D-247D-4BD8-8624-AB4EB9AC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0339-2CA9-40AB-9EAA-DEAD7871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020-3C30-4671-901A-F3C30902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A14-0268-4862-A545-73E12B7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588-86AB-45C8-BE17-1038E68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716-0DAA-4463-8ABB-FEB5EBF1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5F9-453A-4860-83F5-5E3C1F58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0D9-1BC5-4EF9-972C-1186CA0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C30-C091-4E45-8A04-A50D6A6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DBD-2387-4E5A-9397-37BC761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63A-41B9-44EE-ABDF-DA5FA22542D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0036-7DB4-422D-9B31-0AD11A7DD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67FB-447F-4AF6-87D3-989A431A6C7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E171-0E88-438D-A0AD-54BB835693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Good as Gold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9C0-7417-41BE-BF73-E966A1E922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941FE-7327-47A9-90D0-2AA07E994B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10:42Z</dcterms:modified>
  <cp:revision>9</cp:revision>
  <dc:subject/>
  <dc:title>Beveled Slide Style</dc:title>
</cp:coreProperties>
</file>