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C7B-CEB6-48A9-B55F-979B484C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064-5E5C-44C3-A893-53179C49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516-C69F-4637-BB86-B89D8B99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752-1070-4ADA-9883-E30D9D93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893-8560-43E4-9300-56C70874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9D39-DA45-4A7B-B327-802CF3FE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A976-833A-4575-B9EF-C3F9E586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292-1693-4934-B9F2-ED0F4AE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FE9F-186C-418A-A7E7-C203854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7CF3-3F33-4246-80F3-04AAC07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EF0-F7EB-40F8-9B02-81544FA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505-131A-475F-8490-E7A1BD1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18F3-3E5B-4A75-8748-5C60A57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AD3-E701-4BAA-B55F-E61D14D1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E415-F83D-4ADA-BDEE-91629DE9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BB03-DB53-4E8A-98B2-5A323CD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EAC-DA83-4F54-8A8B-0E9C5F0F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8FA-684B-4C00-80AE-51AAB39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AF4-EE80-40A2-9080-87623797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96F-5ED3-4803-8F09-80B480E8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1EB-796F-4688-A4C3-0E53897A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703-F551-40FC-A750-A883F5F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86D-ECFD-426D-98FF-D7DB1FD9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FCB-8B1F-4CC6-80A5-E36AB92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008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F91-4333-4739-ACEB-3F426CB79AC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2CBA-C93A-409E-8EF3-ED8A78D48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ACB4-0B23-40C5-8053-A98FEC489C8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071-AA66-4AC6-8264-8D0AC809A9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dy"/>
              </a:rPr>
              <a:t>Tealish</a:t>
            </a:r>
            <a:endParaRPr b="0" lang="en-US" sz="4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3E0-CB04-4949-AEEB-54441F02F0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D0162-ECE5-447B-9B8B-60419F9605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11:49Z</dcterms:modified>
  <cp:revision>10</cp:revision>
  <dc:subject/>
  <dc:title>Beveled Slide Style</dc:title>
</cp:coreProperties>
</file>