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68ED-B3BA-4CC3-981E-DBB29C19F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A254-7435-4019-A4E9-082F6E63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3EC3-1C56-47FA-9390-76DF00D5E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BD5E-68B2-4533-B597-965628109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79CA-8331-4E70-99B1-6BEDF0D37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408B-D195-4CEA-B296-165D6A9F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FA1C-2813-44D6-BDE2-84399FBA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DFA0-62E4-4137-A181-74EC6B84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7609-1725-4378-9549-23C8BDBE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E7F7-2F84-4565-A20E-22F5AA2B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0956-59A8-4A07-98C1-CA204B3D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15CA-7440-4267-907A-9FE0598B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2314-1B48-40CD-9BDE-A8A03863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7326-6481-480D-BD44-4393AFEC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5E39-94B1-4A07-8B81-F0096214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4CB7-4C27-4CE7-8A72-F85AEFAAF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AAB5-1405-47AE-A0C8-D77E72238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A48D-6408-42A3-9B17-D03E1C58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BD25-F882-4838-8A97-73085EF5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4969-393C-4650-B2D2-C4DD4DD9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00A4-5BE4-4293-BAAF-8FDEE63C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6E74-1D3C-4011-A125-499521FF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90F1-146B-46E3-AF4A-3786DC9F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B8F1-A3A0-49E4-9AE0-CCB0580D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06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ndy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56DF-27E8-475E-B92D-33EEF91F5F5C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66880" y="6629040"/>
            <a:ext cx="3810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2904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116C-128C-49F6-B195-29929C9D32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6574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1523880"/>
            <a:ext cx="632448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ndy"/>
              </a:rPr>
              <a:t>Click to edit the title text format</a:t>
            </a:r>
            <a:endParaRPr b="1" lang="en-US" sz="6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F7F0-A7A0-4EC8-9AE0-CE2874B49DC7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5C99-BB5E-4BB0-805B-4CC884F349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ndy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ndy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ndy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ndy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ndy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ndy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ndy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1523880"/>
            <a:ext cx="632448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ndy"/>
              </a:rPr>
              <a:t>Beveled Slide Style</a:t>
            </a:r>
            <a:endParaRPr b="1" lang="en-US" sz="6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Lavender Sprig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3B38-6608-406C-9875-E7C01D4D348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AEC3AF-466E-4552-AE0F-92230E31AF7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19:52:32Z</dcterms:created>
  <dc:creator>Nan Shastry</dc:creator>
  <dc:description/>
  <dc:language>en-US</dc:language>
  <cp:lastModifiedBy>Nan Shastry</cp:lastModifiedBy>
  <dcterms:modified xsi:type="dcterms:W3CDTF">2006-06-05T20:12:53Z</dcterms:modified>
  <cp:revision>11</cp:revision>
  <dc:subject/>
  <dc:title>Beveled Slide Style</dc:title>
</cp:coreProperties>
</file>