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1559-6F2B-4894-A837-80DBF6D0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9F56-A75B-4DF9-A4DD-845C3155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0C52-BE3B-4D43-8B9F-19A39C90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5355-2B10-4D2C-8399-E69176E5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B123-0BDE-4D77-9A7F-DA20AEDC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884E-C952-43C1-8479-1A19FAD8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95FC-31CD-4A56-BE55-114FFE76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5E74-199E-449D-9B76-01F2C6E9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90A6-04EE-43FD-8372-329DBB48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81FB-D46F-47CB-B72B-89B86EB4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B625-82BD-4FCB-9BE3-CDB96682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63B0-3C35-41A6-BF5A-411F4B65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6782-C140-451A-9672-A78030BB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B65D-A825-47D8-9F5F-1962EEDA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0600-B0FC-4530-BF2D-B1418187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E314-6392-4873-BA5D-A91E6CFB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07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6460-BE18-46B0-954C-766BB5C20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D429-6023-4E2D-8EBA-A69FE7B4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6966-F0EF-4238-9D76-602515E8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1B14-0645-4B85-A74E-7586CC98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7103-CA28-46BC-B154-857367FD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7B87-B683-4DDF-A39F-99C6F32C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07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4295-AFF0-407A-A89D-57523AE6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07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0C2C-7BED-42E9-B81F-3631D010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430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nd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nd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BF7C-22E0-40F1-8A95-386FA6CFFE6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880" y="6629040"/>
            <a:ext cx="3810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290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1B10-D7B7-48E5-97B9-2E0789473B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6574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3244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ndy"/>
              </a:rPr>
              <a:t>Click to edit the title text format</a:t>
            </a:r>
            <a:endParaRPr b="1" lang="en-US" sz="6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26EA-F90C-4F19-9E3F-837D2476C9E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9B11-14CE-4889-96FA-65A1FC1CC8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d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dy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dy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ndy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ndy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ndy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ndy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ndy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dy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1523880"/>
            <a:ext cx="632448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ndy"/>
              </a:rPr>
              <a:t>Beveled Slide Style</a:t>
            </a:r>
            <a:endParaRPr b="1" lang="en-US" sz="66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dy"/>
              </a:rPr>
              <a:t>Fresh Cement</a:t>
            </a:r>
            <a:endParaRPr b="0" lang="en-US" sz="4000" spc="-1" strike="noStrike">
              <a:solidFill>
                <a:srgbClr val="000000"/>
              </a:solidFill>
              <a:latin typeface="And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d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8D8A-0C6D-4285-80D7-4B02AEE5EED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2F627-DEA3-45CA-899A-FABF9E69C6E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19:52:32Z</dcterms:created>
  <dc:creator>Nan Shastry</dc:creator>
  <dc:description/>
  <dc:language>en-US</dc:language>
  <cp:lastModifiedBy>Nan Shastry</cp:lastModifiedBy>
  <dcterms:modified xsi:type="dcterms:W3CDTF">2006-06-05T20:13:41Z</dcterms:modified>
  <cp:revision>12</cp:revision>
  <dc:subject/>
  <dc:title>Beveled Slide Style</dc:title>
</cp:coreProperties>
</file>