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486-F0E9-4DE4-8715-19319B7B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D3F-6D69-4857-84BD-B8CCF1FA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CB0-B1BA-4FA3-BCAC-98740773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52B-154E-47C8-86B0-C8838DC9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032-FB5C-4796-A67F-BDC71A52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5B0-0E44-4E42-AA52-3F2321D4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197-015F-4BC6-96E4-235837B4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1A2-FB27-40EF-B32F-34551175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CEB-8CAB-4AFC-84AE-FC1632CE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F00-AEE7-49DA-B005-7EA2764D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9D6-79D7-4126-808E-28CAC29E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117-0FD9-44CA-8B0E-2F062AE0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A7C6-07E1-4E52-AE15-29D2FDC74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32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561960" cy="679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990720" y="1676520"/>
            <a:ext cx="4419360" cy="153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3880" y="23623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00200" y="304920"/>
            <a:ext cx="3276720" cy="147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447920" y="3505320"/>
            <a:ext cx="3273480" cy="1473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38280" y="38098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267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4800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57150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8:32:49Z</dcterms:created>
  <dc:creator>Nandini Shastry</dc:creator>
  <dc:description/>
  <dc:language>en-US</dc:language>
  <cp:lastModifiedBy>Nandini Shastry</cp:lastModifiedBy>
  <dcterms:modified xsi:type="dcterms:W3CDTF">2006-09-12T18:33:03Z</dcterms:modified>
  <cp:revision>1</cp:revision>
  <dc:subject/>
  <dc:title>Slide 1</dc:title>
</cp:coreProperties>
</file>