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8FA-B286-4F39-A1CD-33E39A5B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20C-0917-4464-8EB0-65D2779F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E172-135B-4602-B337-43F79C69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0393-CF23-4E12-A3D5-0EFD6A71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788-4C43-4116-8782-6AB0BF43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9F68-30B7-4251-9283-C8542E74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7E8B-2984-4C70-B095-D9E25962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8B11-D459-4AD3-B425-8A116933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F99-7A0D-4D7E-966F-159EE8BB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D117-16E7-4720-990A-A4E78259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5F78-D3A0-48F3-87D7-4404052D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86D3-A6E7-4AB8-A560-BC2A4D87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4424-5D16-4119-95A9-1F76BC450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4760" y="5105520"/>
            <a:ext cx="20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Lucida Calligraphy"/>
              </a:rPr>
              <a:t>t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9840" y="4648320"/>
            <a:ext cx="511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Lucida Calligraphy"/>
              </a:rPr>
              <a:t>Given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719000" y="1600200"/>
            <a:ext cx="85305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Onyx"/>
              </a:rPr>
              <a:t>THIS AWARD IS GIVEN TO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0760" y="3581280"/>
            <a:ext cx="2131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alligraphy"/>
              </a:rPr>
              <a:t>for outstanding perform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840" y="3809880"/>
            <a:ext cx="98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alligraphy"/>
              </a:rPr>
              <a:t>in the field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5240" y="5051520"/>
            <a:ext cx="52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Lucida Calligraphy"/>
              </a:rPr>
              <a:t>day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67040" y="5029200"/>
            <a:ext cx="56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Lucida Calligraphy"/>
              </a:rPr>
              <a:t>year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7772400" cy="2041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720" y="27036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40600" y="4038480"/>
            <a:ext cx="25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EMEN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97440" y="44197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C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9520" y="4800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2160" y="48006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07840" y="48006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0240" y="55818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6200" y="60390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3:03:09Z</dcterms:created>
  <dc:creator>Nandini Shastry</dc:creator>
  <dc:description/>
  <dc:language>en-US</dc:language>
  <cp:lastModifiedBy>Nandini Shastry</cp:lastModifiedBy>
  <dcterms:modified xsi:type="dcterms:W3CDTF">2006-09-12T13:29:02Z</dcterms:modified>
  <cp:revision>2</cp:revision>
  <dc:subject/>
  <dc:title>Slide 1</dc:title>
</cp:coreProperties>
</file>