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0AE-47F7-4D64-B1AB-1133A847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7F6-4616-466C-AA13-AC50996F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65E-C43F-4B92-B48B-742AB1CC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BBD-1B76-4132-8C30-2EFAAC9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F52-A84B-4E3D-9348-BCD31606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9CB-D9CA-4005-9033-7B1566DF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AA0-EC19-41A4-98F1-177F710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90D-4B3A-4058-9A51-075CF2E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902-E504-4F87-AD88-0B522C2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33E-E984-4F80-899D-2FB0FEF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E09-2A96-4CB9-9A46-23D1131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94E-D409-4F7B-AB2A-4F598B94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33B-DF4E-4FE0-A0DC-F6FD2190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20480" y="339840"/>
            <a:ext cx="2151000" cy="731880"/>
            <a:chOff x="420480" y="339840"/>
            <a:chExt cx="2151000" cy="731880"/>
          </a:xfrm>
        </p:grpSpPr>
        <p:sp>
          <p:nvSpPr>
            <p:cNvPr id="43" name=""/>
            <p:cNvSpPr/>
            <p:nvPr/>
          </p:nvSpPr>
          <p:spPr>
            <a:xfrm>
              <a:off x="420480" y="339840"/>
              <a:ext cx="2151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any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2"/>
          <a:srcRect l="10782" t="11526" r="6567" b="10655"/>
          <a:stretch/>
        </p:blipFill>
        <p:spPr>
          <a:xfrm>
            <a:off x="0" y="0"/>
            <a:ext cx="70102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89120" y="6381720"/>
            <a:ext cx="5040360" cy="11160"/>
          </a:xfrm>
          <a:prstGeom prst="rect">
            <a:avLst/>
          </a:prstGeom>
          <a:solidFill>
            <a:srgbClr val="008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33680" y="5661000"/>
            <a:ext cx="5060880" cy="22320"/>
          </a:xfrm>
          <a:prstGeom prst="rect">
            <a:avLst/>
          </a:prstGeom>
          <a:solidFill>
            <a:srgbClr val="008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4952880"/>
            <a:ext cx="6221160" cy="22320"/>
          </a:xfrm>
          <a:prstGeom prst="rect">
            <a:avLst/>
          </a:prstGeom>
          <a:solidFill>
            <a:srgbClr val="008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31800" y="4267080"/>
            <a:ext cx="6108840" cy="22320"/>
          </a:xfrm>
          <a:prstGeom prst="rect">
            <a:avLst/>
          </a:prstGeom>
          <a:solidFill>
            <a:srgbClr val="008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1800" y="6156360"/>
            <a:ext cx="19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Eurostile"/>
              </a:rPr>
              <a:t>Your text 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8680" y="5424480"/>
            <a:ext cx="1995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Eurostile"/>
              </a:rPr>
              <a:t>Your text he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080" y="4727520"/>
            <a:ext cx="70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Eurostile"/>
              </a:rPr>
              <a:t>Da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440" y="4052880"/>
            <a:ext cx="874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Eurostile"/>
              </a:rPr>
              <a:t>Nam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7280" y="3376440"/>
            <a:ext cx="313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ff"/>
                </a:solidFill>
                <a:latin typeface="Baskerville Old Face"/>
              </a:rPr>
              <a:t>FOR EXCELLENCE IN S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3:03:09Z</dcterms:created>
  <dc:creator>Nandini Shastry</dc:creator>
  <dc:description/>
  <dc:language>en-US</dc:language>
  <cp:lastModifiedBy>Nandini Shastry</cp:lastModifiedBy>
  <dcterms:modified xsi:type="dcterms:W3CDTF">2006-09-12T17:05:51Z</dcterms:modified>
  <cp:revision>3</cp:revision>
  <dc:subject/>
  <dc:title>Slide 1</dc:title>
</cp:coreProperties>
</file>