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6AF-A36A-4C93-A84F-2318498F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96E6-4944-4521-85F8-E97FE12F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A4D3-B435-439C-817E-F92FB2FA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E39-655E-4135-8C07-EE1A9663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068-B9E2-46C9-8115-7E715E75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EFE-54F3-45F3-9B9C-41980668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743-379A-4A1E-A39F-CE2ADB02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36C2-6AAD-40EA-906C-551BF7F2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22C9-05E8-438B-9212-871D15BB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BC0B-20D3-4FF8-9ACE-27AAFA8F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E9B4-57F0-45AB-AD65-FA1BADEE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36C-6CF9-485D-B869-BC44D5B8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CD98-E523-4A86-AD48-47259059C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760680" y="1471680"/>
            <a:ext cx="7559640" cy="3597840"/>
            <a:chOff x="760680" y="1471680"/>
            <a:chExt cx="7559640" cy="3597840"/>
          </a:xfrm>
        </p:grpSpPr>
        <p:sp>
          <p:nvSpPr>
            <p:cNvPr id="43" name=""/>
            <p:cNvSpPr/>
            <p:nvPr/>
          </p:nvSpPr>
          <p:spPr>
            <a:xfrm>
              <a:off x="3291840" y="1471680"/>
              <a:ext cx="2631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99"/>
                  </a:solidFill>
                  <a:latin typeface="Abadi MT Condensed Extra Bold"/>
                </a:rPr>
                <a:t>THIS CERTIFIES THA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65560" y="2360520"/>
              <a:ext cx="4778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99"/>
                  </a:solidFill>
                  <a:latin typeface="Abadi MT Condensed Extra Bold"/>
                </a:rPr>
                <a:t>has completed the course of Kindergarte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86200" y="2878200"/>
              <a:ext cx="542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99"/>
                  </a:solidFill>
                  <a:latin typeface="Abadi MT Condensed Extra Bold"/>
                </a:rPr>
                <a:t>for this reason you have the right to receive thi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60680" y="3475080"/>
              <a:ext cx="755964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700" spc="-1" strike="noStrike">
                  <a:solidFill>
                    <a:srgbClr val="000099"/>
                  </a:solidFill>
                  <a:latin typeface="Abadi MT Condensed Extra Bold"/>
                </a:rPr>
                <a:t>Kindergarten Diploma</a:t>
              </a:r>
              <a:endParaRPr b="0" lang="en-US" sz="5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09920" y="4779720"/>
              <a:ext cx="522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99"/>
                  </a:solidFill>
                  <a:latin typeface="Abadi MT Condensed Extra Bold"/>
                </a:rPr>
                <a:t>      </a:t>
              </a:r>
              <a:r>
                <a:rPr b="0" lang="en-US" sz="1900" spc="-1" strike="noStrike">
                  <a:solidFill>
                    <a:srgbClr val="000099"/>
                  </a:solidFill>
                  <a:latin typeface="Abadi MT Condensed Extra Bold"/>
                </a:rPr>
                <a:t>Given this               day of                     year of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8:26:52Z</dcterms:created>
  <dc:creator>Nandini Shastry</dc:creator>
  <dc:description/>
  <dc:language>en-US</dc:language>
  <cp:lastModifiedBy>Nandini Shastry</cp:lastModifiedBy>
  <dcterms:modified xsi:type="dcterms:W3CDTF">2006-09-12T18:27:14Z</dcterms:modified>
  <cp:revision>1</cp:revision>
  <dc:subject/>
  <dc:title>Slide 1</dc:title>
</cp:coreProperties>
</file>