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236-187D-4EDD-8C6F-3030032D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15A-5CA9-45D4-A677-8B30BA9A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491-58C0-4C5F-AF4F-699BADB2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34E-1D38-4303-8018-92E2E695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859-2970-45A2-94EA-3CA8E51E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5AA-1CC3-477C-B7CB-D4CA3640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EA2-9490-415C-823D-EAC43578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A9A-57F8-4B7E-A53A-4C272904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825-EA03-438D-9CB1-2A5132A9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435-CC15-4060-9323-637777AF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958-941E-4702-846B-067FED3B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789-59A8-406D-9992-2070D1FC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76AC-8203-42C2-BEE0-1F587F565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1832040"/>
          <a:ext cx="9144000" cy="50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32040"/>
                    <a:ext cx="9144000" cy="50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2:56:36Z</dcterms:created>
  <dc:creator>Nan Shastry</dc:creator>
  <dc:description/>
  <dc:language>en-US</dc:language>
  <cp:lastModifiedBy>Nan Shastry</cp:lastModifiedBy>
  <dcterms:modified xsi:type="dcterms:W3CDTF">2004-02-01T12:56:42Z</dcterms:modified>
  <cp:revision>1</cp:revision>
  <dc:subject/>
  <dc:title>Blues</dc:title>
</cp:coreProperties>
</file>