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51A0-A927-4A67-8C1C-6F0392BD5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B19F-7726-45AF-8D34-9448B69B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94EE-6F10-4410-B13E-F0514677A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9CCB-47E5-4ED3-99C3-1B6CBB565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35C0-01A6-4023-B30C-60E04432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C0CB-25AC-4D79-9B12-A1148693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3840-0937-4486-9282-84E7A3B5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675E-B40E-4C9E-9D33-691573B7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15F5-5431-4326-8883-EF7BD757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1930-2168-471B-8A0A-42E36561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DFA6-EEB7-4CE7-BDFF-AF783091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0AFA-0E0B-4DD1-92F3-2D549B6F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35BF-95B1-4F78-B480-914397025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" y="533520"/>
          <a:ext cx="8229600" cy="5740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490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porate Blueber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6699"/>
                        </a:gs>
                        <a:gs pos="100000">
                          <a:srgbClr val="373753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c3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c3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c3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c3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c3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c3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c3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c3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c3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a5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a5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a5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a5c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1T13:05:24Z</dcterms:created>
  <dc:creator>Nan Shastry</dc:creator>
  <dc:description/>
  <dc:language>en-US</dc:language>
  <cp:lastModifiedBy>Nan Shastry</cp:lastModifiedBy>
  <dcterms:modified xsi:type="dcterms:W3CDTF">2004-02-01T13:08:53Z</dcterms:modified>
  <cp:revision>4</cp:revision>
  <dc:subject/>
  <dc:title>Slide 1</dc:title>
</cp:coreProperties>
</file>