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489F-64F3-4E48-A85E-EF035D2F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F66C-31F1-4D00-A85A-58F1E3B0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CE04-822A-4C0B-AC17-2227CC77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0D39-8D88-4251-8212-F6AD6774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3A9A-4D59-4873-96A7-D98A7833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5F08-36A1-48A1-A0CB-155F6F0B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115F-9E5F-4F35-BC92-9C6E0DEF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67B5-EE51-431A-8E6F-86132389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78DB-06E2-4AC0-AE36-E35B79A7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A823-EE3F-41C6-8CBA-061F0A86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9113-75AC-4CF1-8645-23019500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9C92-2754-4F33-9DA2-F2755BA0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2A98-D1BF-4D0B-B338-40348C328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533520"/>
          <a:ext cx="8229600" cy="5740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90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porate Pl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81a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1T13:05:24Z</dcterms:created>
  <dc:creator>Nan Shastry</dc:creator>
  <dc:description/>
  <dc:language>en-US</dc:language>
  <cp:lastModifiedBy>Nan Shastry</cp:lastModifiedBy>
  <dcterms:modified xsi:type="dcterms:W3CDTF">2004-02-01T13:07:39Z</dcterms:modified>
  <cp:revision>3</cp:revision>
  <dc:subject/>
  <dc:title>Slide 1</dc:title>
</cp:coreProperties>
</file>