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37D-C3F3-4410-A2CA-437F7D23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0D2-A5FF-4384-A687-4DDEA67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28D-86F4-4368-8A04-A6B39E74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AA0-26F4-4063-AA41-5464C443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1C6-0654-4AD8-B50D-FC0EBF5C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F0E-AD9A-4501-9A74-9DBC41E2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4E5-19E7-4C77-A0DF-93CB50F7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810-912B-499A-9041-4ED1731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674-5A69-4172-B9A0-F703AB3A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14A-C4ED-46B4-9D1D-A44951B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924-D8F1-441C-8B63-B95142D3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235-995A-4946-9D10-5AD6D25A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CD0-867B-4211-B230-BB26A86B8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y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832040"/>
          <a:ext cx="914400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204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2:56:36Z</dcterms:created>
  <dc:creator>Nan Shastry</dc:creator>
  <dc:description/>
  <dc:language>en-US</dc:language>
  <cp:lastModifiedBy>Nan Shastry</cp:lastModifiedBy>
  <dcterms:modified xsi:type="dcterms:W3CDTF">2004-02-01T13:02:01Z</dcterms:modified>
  <cp:revision>5</cp:revision>
  <dc:subject/>
  <dc:title>Blues</dc:title>
</cp:coreProperties>
</file>