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B17-840C-4E11-83C2-A77B2108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9C6-F2EE-4A5F-9C57-92E9EEC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371-72CE-43BC-8579-5DFAA869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86F-F32A-41C0-822C-3202439E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BD9-5AC6-4648-8E04-BADA974B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0E9-CC90-499E-9230-79F5CDD1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E50-0276-4296-90B6-D2868D2E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8EB-F255-42D8-96CC-9E3C23E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743-5286-456D-8B10-C7B94E6C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94C-12A7-4E6A-8282-020CDC4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F81-ABC2-4A9A-975C-80E3E29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8F4-8C96-4E15-9CEB-FB977D14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CBE-3DC6-4FD0-870B-690A1112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3520"/>
          <a:ext cx="8229600" cy="574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e Green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3:05:24Z</dcterms:created>
  <dc:creator>Nan Shastry</dc:creator>
  <dc:description/>
  <dc:language>en-US</dc:language>
  <cp:lastModifiedBy>Nan Shastry</cp:lastModifiedBy>
  <dcterms:modified xsi:type="dcterms:W3CDTF">2004-02-01T13:05:33Z</dcterms:modified>
  <cp:revision>1</cp:revision>
  <dc:subject/>
  <dc:title>Slide 1</dc:title>
</cp:coreProperties>
</file>