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9E3-6978-4C02-988C-71AAAABD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8B5-55EA-4432-BC4E-07681F85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BDE-57AF-4A2F-8111-8ADA4BD8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D67-B54C-4D56-B7B7-A1A16376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1AA-950C-4A43-9645-87DB7A56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574-9ED8-4278-B3E9-05BD4DAC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719-7399-48C6-BDBB-8FB805B5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DE5-F948-40D1-B09B-2E38E1E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D00-C0EA-419E-9F84-D96082EF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213-B814-474B-A2A4-8ADCFA9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17B-5BE0-41A9-AAF5-35485036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78D-909F-42E3-94F3-1C0D03F5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90D5-08B7-4AE5-9B1F-F91855206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33520"/>
          <a:ext cx="8229600" cy="5740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90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 You Gl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3:05:24Z</dcterms:created>
  <dc:creator>Nan Shastry</dc:creator>
  <dc:description/>
  <dc:language>en-US</dc:language>
  <cp:lastModifiedBy>Nan Shastry</cp:lastModifiedBy>
  <dcterms:modified xsi:type="dcterms:W3CDTF">2004-02-01T13:06:28Z</dcterms:modified>
  <cp:revision>2</cp:revision>
  <dc:subject/>
  <dc:title>Slide 1</dc:title>
</cp:coreProperties>
</file>