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1C6-78DF-427E-9320-89D10791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B2E-F1C6-40C5-8F90-E2EBCD91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EA9-9835-4A13-9067-F9964F68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20F-43EB-488F-8516-4C94C3E9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F40-29BE-4DBA-8931-5DA47481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752-93A6-4F72-B15D-8330AABE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C20-75CA-46FE-9BB7-E4A6B55B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1BF-086A-43A7-92BE-A20CC9CA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A40-D5C0-4D1C-86A5-CB443E60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4EA-BAEC-46D4-9E71-8989C373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185-0B19-4A17-9ABF-707CA9C0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3FA-D3CA-4ED6-9B72-B651F853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47AF-7E4B-495D-8353-278368CF2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s and Ne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1832040"/>
          <a:ext cx="9144000" cy="50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32040"/>
                    <a:ext cx="9144000" cy="50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2:56:36Z</dcterms:created>
  <dc:creator>Nan Shastry</dc:creator>
  <dc:description/>
  <dc:language>en-US</dc:language>
  <cp:lastModifiedBy>Nan Shastry</cp:lastModifiedBy>
  <dcterms:modified xsi:type="dcterms:W3CDTF">2004-02-01T12:59:08Z</dcterms:modified>
  <cp:revision>2</cp:revision>
  <dc:subject/>
  <dc:title>Blues</dc:title>
</cp:coreProperties>
</file>