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849E-26A4-4BDD-B739-DDEAF94B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FC01-40DB-4198-A972-A4DE783F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B5F0-BFD8-4862-91C5-856D2C68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9790-C7E3-4A25-A593-884301DED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86BE-49B9-4DAC-BD7E-CF354C83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7E36-6600-40DD-9963-1DD32868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906A-6DA9-42F2-BD0F-5A053420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160F-5F57-4A15-9AE3-9EA02711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F8DC-EC17-4023-BCED-7BE5C54A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FD87-9363-4BD5-8FA7-58DEC11B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6F31-20D4-407E-AE85-D7A5F0A6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7BFB-59A0-49B2-BDE4-4B3BD3F7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7AFC-52AE-4B0A-8605-923AA29BF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1752480"/>
          <a:ext cx="91440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1T12:48:58Z</dcterms:created>
  <dc:creator>Nan Shastry</dc:creator>
  <dc:description/>
  <dc:language>en-US</dc:language>
  <cp:lastModifiedBy>Nan Shastry</cp:lastModifiedBy>
  <dcterms:modified xsi:type="dcterms:W3CDTF">2004-02-01T12:51:34Z</dcterms:modified>
  <cp:revision>2</cp:revision>
  <dc:subject/>
  <dc:title>Teal</dc:title>
</cp:coreProperties>
</file>