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B1D4-99B9-4E45-BF0B-1F26E5F7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FA8-9F2A-4998-BA0F-00B860B1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120-FE78-4CF2-87E7-8BAECDD3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E043-A75E-4882-B83A-9EFFB1AA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F85-7270-41C0-8220-AE294EAF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FD82-D607-4AF6-BBDF-586F5DB7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5D23-E880-4D1F-9B77-66B805F8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A19-346B-4522-AEF9-3C3B6FBF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F6EB-72C1-4AD0-BB42-FFA9E7BE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F52-F77C-45C3-8983-6014F311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FE3D-A14E-45BE-A925-253B2F51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9B5B-55B2-4B18-82AA-6CF9F9F4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EC41-52F8-40F3-90E0-5E2147C21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457200" y="533412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, Arial, Helvetica, sans"/>
              </a:rPr>
              <a:t>Life is like a game of cards. The hand that is dealt you represents determinism; the way you play it is free will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, Arial, Helvetica, sans"/>
              </a:rPr>
              <a:t>Jawaharlal Neh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C:\Users\Nan\AppData\Local\Microsoft\Windows\Temporary Internet Files\Content.IE5\H1WSXKRY\MP900314267[1].jpg"/>
          <p:cNvPicPr/>
          <p:nvPr/>
        </p:nvPicPr>
        <p:blipFill>
          <a:blip r:embed="rId1"/>
          <a:stretch/>
        </p:blipFill>
        <p:spPr>
          <a:xfrm>
            <a:off x="2614680" y="712800"/>
            <a:ext cx="376704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7:39:18Z</dcterms:created>
  <dc:creator>Nandini Shastry</dc:creator>
  <dc:description/>
  <dc:language>en-US</dc:language>
  <cp:lastModifiedBy>Nandini Shastry</cp:lastModifiedBy>
  <dcterms:modified xsi:type="dcterms:W3CDTF">2010-05-03T18:17:31Z</dcterms:modified>
  <cp:revision>8</cp:revision>
  <dc:subject/>
  <dc:title>PowerPoint Presentation</dc:title>
</cp:coreProperties>
</file>