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8EC-F276-42AA-A8A8-40E6F56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B30-B78F-4DBD-9623-F676A19D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153-215C-4E27-AEB0-3919BCB7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1B3-9589-4A33-965B-3FBEF840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97A-66F6-449B-A242-535946E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0F9-C4F9-4C3F-B4C9-7F05CC50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111-A70E-4E90-9AAC-7E59A32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6B6-EB67-4CD9-9857-C4088C4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9C5-8C97-49B6-A7B1-248298E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76E-E377-4639-8A0B-019A8100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77-71D1-492A-A0E3-A92B43C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1B0-268E-4048-90EF-20B7608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E58-3E63-42F7-887C-B890DD768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533520" y="5943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, Arial, Helvetica, sans"/>
              </a:rPr>
              <a:t>The future belongs to those who believe in the beauty of their dreams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Verdana, Arial, Helvetica, sans"/>
              </a:rPr>
              <a:t>Eleanor Roosev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2" descr="C:\Users\Nan\AppData\Local\Microsoft\Windows\Temporary Internet Files\Content.IE5\ONZ12SSM\MP900424420[1].jpg"/>
          <p:cNvPicPr/>
          <p:nvPr/>
        </p:nvPicPr>
        <p:blipFill>
          <a:blip r:embed="rId1"/>
          <a:stretch/>
        </p:blipFill>
        <p:spPr>
          <a:xfrm>
            <a:off x="2610000" y="324000"/>
            <a:ext cx="4035240" cy="108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31:02Z</dcterms:modified>
  <cp:revision>12</cp:revision>
  <dc:subject/>
  <dc:title>PowerPoint Presentation</dc:title>
</cp:coreProperties>
</file>