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5DD7-0D3B-4B53-978D-F41C7806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ACA-63E4-4E16-A1A7-14E9C8B9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50D-9290-4CE7-A4A0-D093E3F7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D8D-93A1-4FF7-9342-6226A632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F8F-E0E6-4E37-8C89-7B481558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69D-1DD6-4C75-8D1C-AD5FCC50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57B-8BDE-451C-9F81-2CD182FA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B84-DB92-403A-AF3C-45375F23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E01-5635-40EF-8885-EA1A1A67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22A-E7DE-49A6-AB6E-05535ACE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2AE-E6FA-4DEB-8558-6EC92F49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4F0-5FBF-4024-8F07-78AFF125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1EAF-1A4E-4250-84A5-2E0AED3CB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Nan\AppData\Local\Microsoft\Windows\Temporary Internet Files\Content.IE5\H1WSXKRY\MP900400064[1].jpg"/>
          <p:cNvPicPr/>
          <p:nvPr/>
        </p:nvPicPr>
        <p:blipFill>
          <a:blip r:embed="rId1"/>
          <a:stretch/>
        </p:blipFill>
        <p:spPr>
          <a:xfrm>
            <a:off x="76320" y="76320"/>
            <a:ext cx="8991360" cy="67816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0"/>
          <p:cNvSpPr/>
          <p:nvPr/>
        </p:nvSpPr>
        <p:spPr>
          <a:xfrm>
            <a:off x="1270080" y="579132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Verdana"/>
              </a:rPr>
              <a:t>Happiness consists in activity: such is the constitution of our nature; it is a running stream, and not a stagnant pool. </a:t>
            </a:r>
            <a:br>
              <a:rPr sz="1800"/>
            </a:br>
            <a:r>
              <a:rPr b="1" i="1" lang="en-US" sz="1800" spc="-1" strike="noStrike">
                <a:solidFill>
                  <a:srgbClr val="92d050"/>
                </a:solidFill>
                <a:latin typeface="Verdana"/>
              </a:rPr>
              <a:t>John M. 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7:39:18Z</dcterms:created>
  <dc:creator>Nandini Shastry</dc:creator>
  <dc:description/>
  <dc:language>en-US</dc:language>
  <cp:lastModifiedBy>Nandini Shastry</cp:lastModifiedBy>
  <dcterms:modified xsi:type="dcterms:W3CDTF">2010-05-03T18:26:32Z</dcterms:modified>
  <cp:revision>10</cp:revision>
  <dc:subject/>
  <dc:title>PowerPoint Presentation</dc:title>
</cp:coreProperties>
</file>