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1C4-9FB2-455A-9050-BF703EB5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CE4-2789-4CBB-937E-2F049E9E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D51-E09A-46D7-9191-FE6999F2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522-4067-415C-A31D-EF186331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901-623B-4E50-AB36-F0BDFA4C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0FA-57C9-4EDC-AD29-69DDA8BC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97A-367D-4799-8918-C8C3270A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41E-A4D3-42D5-A6FB-B6AE2365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C26-FBBD-49F3-9632-6EC7A3A2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6F0-E5B3-446B-B542-D45EE244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A2A-8A93-4AD5-BF08-6985855E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404-6E5B-41B0-A924-805C3C8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8C75-AB4C-4401-A6AE-F6D19FBBC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152280" y="22860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f your actions inspire others to dream more, learn more, do more and become more,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are a leader. 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John Quincy Adams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3" descr="C:\Users\Nan\AppData\Local\Microsoft\Windows\Temporary Internet Files\Content.IE5\H1WSXKRY\MP900433158[1].jpg"/>
          <p:cNvPicPr/>
          <p:nvPr/>
        </p:nvPicPr>
        <p:blipFill>
          <a:blip r:embed="rId1"/>
          <a:stretch/>
        </p:blipFill>
        <p:spPr>
          <a:xfrm>
            <a:off x="1295280" y="1752480"/>
            <a:ext cx="6400800" cy="4651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39:18Z</dcterms:created>
  <dc:creator>Nandini Shastry</dc:creator>
  <dc:description/>
  <dc:language>en-US</dc:language>
  <cp:lastModifiedBy>Nandini Shastry</cp:lastModifiedBy>
  <dcterms:modified xsi:type="dcterms:W3CDTF">2010-05-03T18:36:12Z</dcterms:modified>
  <cp:revision>14</cp:revision>
  <dc:subject/>
  <dc:title>PowerPoint Presentation</dc:title>
</cp:coreProperties>
</file>