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36A-429F-4898-AD23-D6D75034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18D8-07FE-4760-9C56-13A79F80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B89A-D0D7-4E7B-B3D8-33BA61AC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BD0-EF3D-463A-B475-D64CC20C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DD6-9961-4F07-B16B-5D521D39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643-DF5E-41DE-A250-D55CAA61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F37-7D49-47E1-8472-A1160740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814-1059-4AAE-8098-336DFD0E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70F-F58A-4B72-A323-A786AB40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96BE-C661-4000-86FA-F443E623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04E-54D9-4F88-AF23-5E8382DB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B92-DFCA-43BD-B285-845C1FAE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D42C-C0FA-42A6-9A2E-6F373E921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C:\Users\Nan\AppData\Local\Microsoft\Windows\Temporary Internet Files\Content.IE5\ONZ12SSM\MP900401165[1]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152280" y="2286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Tw Cen MT"/>
              </a:rPr>
              <a:t>The whole of life is but a moment of time. It is our duty, therefore to use it, not to misuse it.</a:t>
            </a:r>
            <a:br>
              <a:rPr sz="1800"/>
            </a:br>
            <a:r>
              <a:rPr b="1" i="1" lang="en-US" sz="1800" spc="-1" strike="noStrike">
                <a:solidFill>
                  <a:srgbClr val="ffc000"/>
                </a:solidFill>
                <a:latin typeface="Tw Cen MT"/>
              </a:rPr>
              <a:t>Plut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7:39:18Z</dcterms:created>
  <dc:creator>Nandini Shastry</dc:creator>
  <dc:description/>
  <dc:language>en-US</dc:language>
  <cp:lastModifiedBy>Nandini Shastry</cp:lastModifiedBy>
  <dcterms:modified xsi:type="dcterms:W3CDTF">2010-05-03T18:23:20Z</dcterms:modified>
  <cp:revision>9</cp:revision>
  <dc:subject/>
  <dc:title>PowerPoint Presentation</dc:title>
</cp:coreProperties>
</file>