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771-CB60-4251-95E9-A60F675D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8354-070A-4999-A9F7-537601B7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ACE-B05D-4A9B-8940-86CAE970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187-F793-443B-BEA1-DD2614E8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0D03-DF51-4381-B0CB-22D9C907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342-5989-4B3D-85D1-D6ABF8FF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272F-6820-46EB-8BFF-8061288B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736-8D23-47B9-9CAD-38ABAD8D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5E6B-23F0-40B3-AC1A-58E35A1D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539-257F-4045-A169-BA21FE29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438-C620-46BC-803C-79A34562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722-5FB8-49C2-BE08-0E1DF8E2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F4E6-EE6A-42D4-9DB4-DEB16C04B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Nan\AppData\Local\Microsoft\Windows\Temporary Internet Files\Content.IE5\Y6J656CR\MP900439322[1]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4419720" y="76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 are what we repeatedly do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cellence, therefore, is not an act but a habit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risto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7:39:18Z</dcterms:created>
  <dc:creator>Nandini Shastry</dc:creator>
  <dc:description/>
  <dc:language>en-US</dc:language>
  <cp:lastModifiedBy>Nandini Shastry</cp:lastModifiedBy>
  <dcterms:modified xsi:type="dcterms:W3CDTF">2010-05-03T18:09:13Z</dcterms:modified>
  <cp:revision>6</cp:revision>
  <dc:subject/>
  <dc:title>PowerPoint Presentation</dc:title>
</cp:coreProperties>
</file>