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00B-A2DE-4BA9-BBC0-CDB4C405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510-7645-4EF1-AC21-31C145BD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56A-0DF3-417B-9C91-DFAE66A7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7F5-4EF1-4935-85DE-F976A8C3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913-1879-436D-91D3-5221D32C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C07-82A9-4FB8-B5E2-31A5D7D8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CDB-3B46-4619-B641-BD481E7D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9B1-34AF-4611-9DEB-7990E8C5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796-96CF-465F-9B65-DA75ECDB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D63-F544-41C6-AC5F-99D6CBE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AEF-6289-42CA-881D-7294AAFF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E62-C5B7-4157-807C-EECA22F7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F1F1-3B9B-4377-A1A5-44477F243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Nan\AppData\Local\Microsoft\Windows\Temporary Internet Files\Content.IE5\ONZ12SSM\MP90039987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191120" y="3049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We are all inventors, each sailing out on a voyage of discovery, guided each by a private chart, of which there is no duplicate. The world is all gates, all opportunities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alph Waldo Emers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8:06:39Z</dcterms:modified>
  <cp:revision>5</cp:revision>
  <dc:subject/>
  <dc:title>PowerPoint Presentation</dc:title>
</cp:coreProperties>
</file>