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94D-1B74-478E-93AB-9B559D8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83D-C618-4547-BA1C-01359A5E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68B-6B33-4983-BB24-03598AEA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2B1-BCB9-4F99-AF6B-BE943B86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037-9276-4593-AE22-BF87326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B57-A185-40F4-8F38-D5780466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AEB-6E0D-497E-ACD8-FC94841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54D-684A-4D5D-A876-875A66B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054-41D9-4688-901A-E13D22A4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A0C-7878-4820-8012-1D210C8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43A-807F-45C6-97E9-033ACB9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81D-4A00-499D-BAD0-188FC6F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576-3509-4BB0-90BD-EEFE1332D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Nan\AppData\Local\Microsoft\Windows\Temporary Internet Files\Content.IE5\H1WSXKRY\MP900144368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065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34920" y="6119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o find what you seek in the road of life, the best proverb of all is that which says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"Leave no stone unturned."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Edward Bulwer Lyt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39:18Z</dcterms:created>
  <dc:creator>Nandini Shastry</dc:creator>
  <dc:description/>
  <dc:language>en-US</dc:language>
  <cp:lastModifiedBy>Nandini Shastry</cp:lastModifiedBy>
  <dcterms:modified xsi:type="dcterms:W3CDTF">2010-05-03T17:51:12Z</dcterms:modified>
  <cp:revision>2</cp:revision>
  <dc:subject/>
  <dc:title>PowerPoint Presentation</dc:title>
</cp:coreProperties>
</file>