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A672-CC53-4D54-9D18-E2D5792E3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DDBD-B387-47B3-B230-123A4E63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5586-2FD0-4913-8AC7-D4D857AC7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524B-6A57-43D4-9386-A957C805D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9ACE-88E8-44BB-8627-F2E00B68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87FF-160D-44BF-8A4B-ABA717A1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C28B-1D80-43DC-BA19-16F35F52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6BE9-D61A-4935-AA57-EE78C3E2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EDEC-6C69-4DBD-B46A-E7EECE41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0AE5-FDF8-4544-B353-BA9D3BA9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FBA3-4736-4CD5-8776-A0CECD0D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C490-C198-4E1F-A1E7-FD67F847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3462-7D7C-4B39-A457-FF1C44B202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3960720" y="29718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, Arial, Helvetica, sans"/>
              </a:rPr>
              <a:t>If at first you don't succeed, try, try again. Then quit. There's no use being a damn fool about it.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Verdana, Arial, Helvetica, sans"/>
              </a:rPr>
              <a:t>W.C. Fiel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http://content.answers.com/main/content/img/getty/1/8/3244818.jpg"/>
          <p:cNvPicPr/>
          <p:nvPr/>
        </p:nvPicPr>
        <p:blipFill>
          <a:blip r:embed="rId1"/>
          <a:stretch/>
        </p:blipFill>
        <p:spPr>
          <a:xfrm>
            <a:off x="609480" y="533520"/>
            <a:ext cx="286884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17:39:18Z</dcterms:created>
  <dc:creator>Nandini Shastry</dc:creator>
  <dc:description/>
  <dc:language>en-US</dc:language>
  <cp:lastModifiedBy>Nandini Shastry</cp:lastModifiedBy>
  <dcterms:modified xsi:type="dcterms:W3CDTF">2010-05-03T18:15:20Z</dcterms:modified>
  <cp:revision>7</cp:revision>
  <dc:subject/>
  <dc:title>PowerPoint Presentation</dc:title>
</cp:coreProperties>
</file>