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0F4-0483-492F-83E1-E933782D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4D1-7E3A-48FE-9751-63AC95BD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2ED-943C-49F3-BEB2-3928FA93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A6C-EE23-462D-BB67-B12F1CE2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EF9-A820-417E-87C2-1069EF2A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098-3D85-4946-9439-FA3B962B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FDE-5BD1-4473-AA77-A59C6033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1E4-BFE9-4DC2-8FE2-53F65E94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824-0232-4A72-B5B2-8AA41394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C2C-D5DE-478D-B561-4550658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8BA-0006-4F07-85AD-DFDBC82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42F-C6E6-46D9-937D-8CE47F26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D43F-F283-4106-A2E9-3A5586866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191120" y="457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man of wisdom is never of two minds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man of benevolence never worries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man of courage is never afraid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Users\Nan\AppData\Local\Microsoft\Windows\Temporary Internet Files\Content.IE5\H1WSXKRY\MP900438765[1].jpg"/>
          <p:cNvPicPr/>
          <p:nvPr/>
        </p:nvPicPr>
        <p:blipFill>
          <a:blip r:embed="rId1"/>
          <a:stretch/>
        </p:blipFill>
        <p:spPr>
          <a:xfrm>
            <a:off x="228600" y="2286000"/>
            <a:ext cx="5248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7:39:18Z</dcterms:created>
  <dc:creator>Nandini Shastry</dc:creator>
  <dc:description/>
  <dc:language>en-US</dc:language>
  <cp:lastModifiedBy>Nandini Shastry</cp:lastModifiedBy>
  <dcterms:modified xsi:type="dcterms:W3CDTF">2010-05-03T17:55:00Z</dcterms:modified>
  <cp:revision>3</cp:revision>
  <dc:subject/>
  <dc:title>PowerPoint Presentation</dc:title>
</cp:coreProperties>
</file>