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ACB-F412-48D1-8A82-63CFAF6E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569-EAB1-453E-A7E4-4CDE0C2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A2D-7DA6-4BE1-9E94-704DF728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517-CE29-4052-8326-ABD69909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64F-5E01-4B37-B066-CEE83B6C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6A0A-1F05-4D32-B42A-52B8A31E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37B0-A02F-4447-9565-A135DB72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5B2B-36E6-4CDE-823A-A910793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824B-21C3-4754-8554-B96C489A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9C1-E42B-47DE-9E02-8695EF39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A307-76F8-45C1-9FD5-73229D5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69F-CBAC-4A35-B64F-669AAEF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840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B58A-9AF6-44C4-88BD-A98B5EE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0B2-E32A-4751-8EA8-9F191E0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4777-350E-4138-8166-B60AC88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840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45E-7EF8-42D7-89EA-06DD2FAC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512-7DC8-433C-ABE4-71F07A49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32E-DFD5-4305-A2E7-2BBB0F5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383-76C1-4CB6-A93D-DCF8CA5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3A5-DDCA-449F-9D65-203E788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070-06D9-43D0-ABAC-1D459F9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23A-B113-4F9D-9F9D-20E1231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B20-FD9C-44D6-9C98-D341590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738-AB66-4995-9F11-27B8B82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Users\Nan\AppData\Local\Microsoft\Windows\Temporary Internet Files\Content.IE5\H1WSXKRY\MP900445025[1].jpg"/>
          <p:cNvPicPr/>
          <p:nvPr/>
        </p:nvPicPr>
        <p:blipFill>
          <a:blip r:embed="rId2"/>
          <a:stretch/>
        </p:blipFill>
        <p:spPr>
          <a:xfrm>
            <a:off x="0" y="0"/>
            <a:ext cx="1371600" cy="177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b9b8"/>
                </a:solidFill>
                <a:latin typeface="Harlow Solid Italic"/>
              </a:rPr>
              <a:t>Click to edit the title text format</a:t>
            </a: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Click to edit the outline text format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1" marL="743040" indent="-285840">
              <a:spcBef>
                <a:spcPts val="799"/>
              </a:spcBef>
              <a:buClr>
                <a:srgbClr val="e6b9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Second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2" marL="1143000" indent="-22860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Third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3" marL="1600200" indent="-228600">
              <a:spcBef>
                <a:spcPts val="799"/>
              </a:spcBef>
              <a:buClr>
                <a:srgbClr val="e6b9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Four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4" marL="2057400" indent="-228600">
              <a:spcBef>
                <a:spcPts val="799"/>
              </a:spcBef>
              <a:buClr>
                <a:srgbClr val="e6b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Fif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Six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Seven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6b9b8"/>
                </a:solidFill>
                <a:latin typeface="Harlow Soli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C20D-3A75-4535-B329-07AA40B3B09E}" type="datetime">
              <a:rPr b="0" lang="en-US" sz="1200" spc="-1" strike="noStrike">
                <a:solidFill>
                  <a:srgbClr val="e6b9b8"/>
                </a:solidFill>
                <a:latin typeface="Harlow Solid Ital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6b9b8"/>
                </a:solidFill>
                <a:latin typeface="Harlow Solid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F6D-2FD2-4C37-A397-F8F0A78D9CD9}" type="slidenum">
              <a:rPr b="0" lang="en-US" sz="1200" spc="-1" strike="noStrike">
                <a:solidFill>
                  <a:srgbClr val="e6b9b8"/>
                </a:solidFill>
                <a:latin typeface="Harlow Solid Ital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:\Users\Nan\AppData\Local\Microsoft\Windows\Temporary Internet Files\Content.IE5\H1WSXKRY\MP900445025[1].jpg"/>
          <p:cNvPicPr/>
          <p:nvPr/>
        </p:nvPicPr>
        <p:blipFill>
          <a:blip r:embed="rId2"/>
          <a:stretch/>
        </p:blipFill>
        <p:spPr>
          <a:xfrm>
            <a:off x="0" y="0"/>
            <a:ext cx="1371600" cy="177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Nan\AppData\Local\Microsoft\Windows\Temporary Internet Files\Content.IE5\H1WSXKRY\MP900445025[1].jpg"/>
          <p:cNvPicPr/>
          <p:nvPr/>
        </p:nvPicPr>
        <p:blipFill>
          <a:blip r:embed="rId3"/>
          <a:stretch/>
        </p:blipFill>
        <p:spPr>
          <a:xfrm>
            <a:off x="0" y="0"/>
            <a:ext cx="4876920" cy="631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b9b8"/>
                </a:solidFill>
                <a:latin typeface="Harlow Solid Italic"/>
              </a:rPr>
              <a:t>Click to edit the title text format</a:t>
            </a: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Click to edit the outline text format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1" marL="743040" indent="-285840">
              <a:spcBef>
                <a:spcPts val="799"/>
              </a:spcBef>
              <a:buClr>
                <a:srgbClr val="e6b9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Second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2" marL="1143000" indent="-22860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Third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3" marL="1600200" indent="-228600">
              <a:spcBef>
                <a:spcPts val="799"/>
              </a:spcBef>
              <a:buClr>
                <a:srgbClr val="e6b9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Four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4" marL="2057400" indent="-228600">
              <a:spcBef>
                <a:spcPts val="799"/>
              </a:spcBef>
              <a:buClr>
                <a:srgbClr val="e6b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Fif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Six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Harlow Solid Italic"/>
              </a:rPr>
              <a:t>Seventh Outline Level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6b9b8"/>
                </a:solidFill>
                <a:latin typeface="Harlow Solid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59F8-8FC0-4755-A5FA-A6FDCEAD15A0}" type="datetime">
              <a:rPr b="0" lang="en-US" sz="1200" spc="-1" strike="noStrike">
                <a:solidFill>
                  <a:srgbClr val="e6b9b8"/>
                </a:solidFill>
                <a:latin typeface="Harlow Solid Ital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6b9b8"/>
                </a:solidFill>
                <a:latin typeface="Harlow Solid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2491-A08C-432D-BFF2-F5E229F1E910}" type="slidenum">
              <a:rPr b="0" lang="en-US" sz="1200" spc="-1" strike="noStrike">
                <a:solidFill>
                  <a:srgbClr val="e6b9b8"/>
                </a:solidFill>
                <a:latin typeface="Harlow Solid Ital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4120" y="456840"/>
            <a:ext cx="312408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b9b8"/>
                </a:solidFill>
                <a:latin typeface="Harlow Solid Italic"/>
              </a:rPr>
              <a:t>Fun Bridal Party</a:t>
            </a: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4120" y="388620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Harlow Solid Italic"/>
              </a:rPr>
              <a:t>Font: Harlow Solid Italic</a:t>
            </a:r>
            <a:endParaRPr b="0" lang="en-US" sz="3200" spc="-1" strike="noStrike">
              <a:solidFill>
                <a:srgbClr val="e6b9b8"/>
              </a:solidFill>
              <a:latin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b9b8"/>
              </a:solidFill>
              <a:latin typeface="Harlow Solid Ital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120" y="1600200"/>
            <a:ext cx="807732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299-8CC0-4930-9FA3-052136516846}" type="datetime">
              <a:rPr b="0" lang="en-US" sz="1200" spc="-1" strike="noStrike">
                <a:solidFill>
                  <a:srgbClr val="e6b9b8"/>
                </a:solidFill>
                <a:latin typeface="Harlow Solid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15A-027C-4835-9979-64E92AE55731}" type="slidenum">
              <a:rPr b="0" lang="en-US" sz="1200" spc="-1" strike="noStrike">
                <a:solidFill>
                  <a:srgbClr val="e6b9b8"/>
                </a:solidFill>
                <a:latin typeface="Harlow Solid Ital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25:40Z</dcterms:created>
  <dc:creator>Nandini Shastry</dc:creator>
  <dc:description/>
  <dc:language>en-US</dc:language>
  <cp:lastModifiedBy>Nandini Shastry</cp:lastModifiedBy>
  <dcterms:modified xsi:type="dcterms:W3CDTF">2010-05-26T21:56:56Z</dcterms:modified>
  <cp:revision>5</cp:revision>
  <dc:subject/>
  <dc:title>Modern Wedding</dc:title>
</cp:coreProperties>
</file>