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897-9387-4C36-88FD-01E3BB37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52320" y="396432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EDA-6D64-4770-A510-816930D0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8580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B5F-D24C-461E-AD76-93F30FDC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5916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5232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5592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5916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44A-57EF-424D-A84E-3A88A4E8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62FC-55F1-4DF3-AE79-2F6C66ED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02F-33E9-425A-8C3B-9DD42462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1860-84A7-45A7-8833-5197B85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7A3-BCD8-497D-BB21-F3EEAED5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5B2C-6CB2-46B0-B386-B29DC3F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977-623C-414E-80F5-5746F08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2B98-08EC-47FA-BF07-B582E3A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04E-634A-48D0-BA1A-C85E562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8580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554-F93A-438C-B09C-CB2FCD4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61D-C70F-43B0-9E86-528C686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2320" y="396432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A4D-CD23-4D45-9B8E-DD654738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8580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F1C3-546A-44CF-A16D-A2449ADF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9160" y="160020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5232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5592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9160" y="3964320"/>
            <a:ext cx="171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44B0-DDBB-4533-BA09-6F4A0E48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8FE-3CFA-4326-B37C-EDF8496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180-B049-4F22-90F4-B4469CE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CA4-4862-441A-B07D-F8E96EA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4CB-751C-4FE3-8D9A-67C2CFC8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E53-24DB-4737-B8A4-59257B4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5800" y="396432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8B6-0790-47B7-935C-6896021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5800" y="1600200"/>
            <a:ext cx="26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52320" y="3964320"/>
            <a:ext cx="533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6CF-FB37-4704-9DCF-53F307B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Nan\AppData\Local\Microsoft\Windows\Temporary Internet Files\Content.IE5\H1WSXKRY\MP90044235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81A-242D-48E4-A94B-B253FF87A98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6FA-F166-4DA7-A4B4-14F56DD9464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Nan\AppData\Local\Microsoft\Windows\Temporary Internet Files\Content.IE5\H1WSXKRY\MP90044235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Nan\AppData\Local\Microsoft\Windows\Temporary Internet Files\Content.IE5\H1WSXKRY\MP900442352[1].jpg"/>
          <p:cNvPicPr/>
          <p:nvPr/>
        </p:nvPicPr>
        <p:blipFill>
          <a:blip r:embed="rId3"/>
          <a:stretch/>
        </p:blipFill>
        <p:spPr>
          <a:xfrm>
            <a:off x="0" y="936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B5CA-CACF-4269-9651-B73C12FF48E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114C-6F33-4278-A18F-D603F855FE1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4343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odern Wedd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4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Font: Century Gothi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320" y="1600200"/>
            <a:ext cx="533412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1086-5F20-4FAF-91BC-EC8F804A9E4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959-D3DE-46C9-B984-939FCB6A110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25:40Z</dcterms:created>
  <dc:creator>Nandini Shastry</dc:creator>
  <dc:description/>
  <dc:language>en-US</dc:language>
  <cp:lastModifiedBy>Nandini Shastry</cp:lastModifiedBy>
  <dcterms:modified xsi:type="dcterms:W3CDTF">2010-05-26T20:32:09Z</dcterms:modified>
  <cp:revision>1</cp:revision>
  <dc:subject/>
  <dc:title>Modern Wedding</dc:title>
</cp:coreProperties>
</file>