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A6B-1814-41AF-B714-CCEBDE16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E75-B52B-4F94-BCB1-2FE7D45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5B4-FCDE-4764-BB3B-C8123FB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5F3-7DE1-43E7-B0D5-9638A041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500-DA8E-4618-9488-7A0B591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38-5410-4AF0-A0F3-CBA0F45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FFF-2CA8-46F7-944D-371BF81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D20-ADF2-4939-A9E3-D5498186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8B7-3521-48DE-82BC-482DA56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DC6-E6BE-493B-8238-17C68F15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2B5-D0A2-49E0-BFF9-2C3D08F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23F-9C5C-4605-81B2-02F9104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Nan\AppData\Local\Microsoft\Windows\Temporary Internet Files\Content.IE5\H1WSXKRY\MC900355825[1].wmf"/>
          <p:cNvPicPr/>
          <p:nvPr/>
        </p:nvPicPr>
        <p:blipFill>
          <a:blip r:embed="rId2"/>
          <a:stretch/>
        </p:blipFill>
        <p:spPr>
          <a:xfrm>
            <a:off x="34920" y="5019840"/>
            <a:ext cx="1425600" cy="180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" name="Picture 5" descr="C:\Users\Nan\AppData\Local\Microsoft\Windows\Temporary Internet Files\Content.IE5\H1WSXKRY\MC900355833[1].wmf"/>
          <p:cNvPicPr/>
          <p:nvPr/>
        </p:nvPicPr>
        <p:blipFill>
          <a:blip r:embed="rId3"/>
          <a:stretch/>
        </p:blipFill>
        <p:spPr>
          <a:xfrm>
            <a:off x="7337520" y="5516640"/>
            <a:ext cx="1806480" cy="13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" name="Picture 3" descr="C:\Users\Nan\AppData\Local\Microsoft\Windows\Temporary Internet Files\Content.IE5\ONZ12SSM\MC900355829[1].wmf"/>
          <p:cNvPicPr/>
          <p:nvPr/>
        </p:nvPicPr>
        <p:blipFill>
          <a:blip r:embed="rId4"/>
          <a:stretch/>
        </p:blipFill>
        <p:spPr>
          <a:xfrm>
            <a:off x="7454880" y="0"/>
            <a:ext cx="1689120" cy="18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" name="Picture 6" descr="C:\Users\Nan\AppData\Local\Microsoft\Windows\Temporary Internet Files\Content.IE5\0ONYRPK0\MC900355831[1].wmf"/>
          <p:cNvPicPr/>
          <p:nvPr/>
        </p:nvPicPr>
        <p:blipFill>
          <a:blip r:embed="rId5"/>
          <a:stretch/>
        </p:blipFill>
        <p:spPr>
          <a:xfrm>
            <a:off x="17640" y="11160"/>
            <a:ext cx="1844640" cy="968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nch Script M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nch Script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enc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ench Script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enc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DB4B-8477-4DBC-A9F3-35460B0A5A5B}" type="slidenum">
              <a:rPr b="0" lang="en-US" sz="1200" spc="-1" strike="noStrike">
                <a:solidFill>
                  <a:srgbClr val="898989"/>
                </a:solidFill>
                <a:latin typeface="French Script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nch Script MT"/>
              </a:rPr>
              <a:t>Simple Parchment: Wedding</a:t>
            </a: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French Script MT"/>
              </a:rPr>
              <a:t>Font: French Script MT</a:t>
            </a:r>
            <a:endParaRPr b="0" lang="en-US" sz="3600" spc="-1" strike="noStrike">
              <a:solidFill>
                <a:srgbClr val="000000"/>
              </a:solidFill>
              <a:latin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nch Script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4:13:05Z</dcterms:created>
  <dc:creator>Nandini Shastry</dc:creator>
  <dc:description/>
  <dc:language>en-US</dc:language>
  <cp:lastModifiedBy>Nandini Shastry</cp:lastModifiedBy>
  <dcterms:modified xsi:type="dcterms:W3CDTF">2010-05-27T14:26:50Z</dcterms:modified>
  <cp:revision>2</cp:revision>
  <dc:subject/>
  <dc:title>Parchment: Wedding</dc:title>
</cp:coreProperties>
</file>