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611E-2618-4BFF-AD54-3FC0F677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964320"/>
            <a:ext cx="8077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838B-B6E7-4C9A-BE5F-4625C4FB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4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4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394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8400" y="3964320"/>
            <a:ext cx="394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439E-E061-4B81-BA32-76D9BE2D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BAD7-61B8-456B-A257-8B964A54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986F-2092-4BBF-AA28-9BAA693A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2C25-BD9F-4904-AFC5-D29E37B9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4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4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DE72-2798-4FEC-AFF1-E8FF3FBC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E867-A9AF-4E2B-8C60-14173D68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743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B653-31B0-491F-894D-67364397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4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4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394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D9C-3724-45E6-BD3F-D8DF6BB1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4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4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0" y="3964320"/>
            <a:ext cx="394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DEE1-048F-471C-B9F0-134D5226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4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0" y="1600200"/>
            <a:ext cx="3941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8077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A389-2B7D-4578-BEB0-5ADED585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Nan\AppData\Local\Microsoft\Windows\Temporary Internet Files\Content.IE5\ONZ12SSM\MP900384825[1].jpg"/>
          <p:cNvPicPr/>
          <p:nvPr/>
        </p:nvPicPr>
        <p:blipFill>
          <a:blip r:embed="rId2"/>
          <a:stretch/>
        </p:blipFill>
        <p:spPr>
          <a:xfrm>
            <a:off x="1371600" y="1407960"/>
            <a:ext cx="6400800" cy="4042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091C-D8AF-46A5-A50D-B3AEA906D60C}" type="datetime">
              <a:rPr b="0" lang="en-US" sz="1200" spc="-1" strike="noStrike">
                <a:solidFill>
                  <a:srgbClr val="898989"/>
                </a:solidFill>
                <a:latin typeface="Goudy Old Style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1F67-47FF-472A-BFC1-0F1E9DBEB65A}" type="slidenum">
              <a:rPr b="0" lang="en-US" sz="1200" spc="-1" strike="noStrike">
                <a:solidFill>
                  <a:srgbClr val="898989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46748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Traditional Wedding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Goudy Old Style"/>
              </a:rPr>
              <a:t>Font: Goudy Old Style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120" y="1600200"/>
            <a:ext cx="807732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20BC-3A0C-43C1-BF18-078B4C9B8A79}" type="datetime">
              <a:rPr b="0" lang="en-US" sz="1200" spc="-1" strike="noStrike">
                <a:solidFill>
                  <a:srgbClr val="898989"/>
                </a:solidFill>
                <a:latin typeface="Goudy Old Style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8053-824C-4A83-A5FB-08B04F5BA5E4}" type="slidenum">
              <a:rPr b="0" lang="en-US" sz="1200" spc="-1" strike="noStrike">
                <a:solidFill>
                  <a:srgbClr val="898989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20:25:40Z</dcterms:created>
  <dc:creator>Nandini Shastry</dc:creator>
  <dc:description/>
  <dc:language>en-US</dc:language>
  <cp:lastModifiedBy>Nandini Shastry</cp:lastModifiedBy>
  <dcterms:modified xsi:type="dcterms:W3CDTF">2010-05-26T21:47:25Z</dcterms:modified>
  <cp:revision>4</cp:revision>
  <dc:subject/>
  <dc:title>Modern Wedding</dc:title>
</cp:coreProperties>
</file>