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800-37B6-4736-8D6B-A0BC700A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021-2EF9-4515-BA97-1FBF066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2EF-D4A2-4EAC-8A2C-06EFA650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401-F9AE-4DEF-A238-E8E16F46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421-419A-4B2F-99C6-BF91EAD2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1AC-91F6-49C6-A1C5-8C713B6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641-F70C-41C0-9EE1-6FB59E76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DE3-8DC2-4E29-9D60-9C3A4EF7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87A-E865-474D-8035-6B96FAF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7C8-128D-4115-8374-948D0519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1D9-937F-4FA9-84D1-D2F02C6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4C4-0AAB-4263-98F3-98A3E24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D712-0F54-403C-A285-0D8DCA6B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152280" y="762120"/>
          <a:ext cx="883764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7640" cy="4190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3:28:55Z</dcterms:created>
  <dc:creator>Nan Shastry</dc:creator>
  <dc:description/>
  <dc:language>en-US</dc:language>
  <cp:lastModifiedBy>Nan Shastry</cp:lastModifiedBy>
  <dcterms:modified xsi:type="dcterms:W3CDTF">2003-03-28T13:31:31Z</dcterms:modified>
  <cp:revision>1</cp:revision>
  <dc:subject/>
  <dc:title>PowerPoint Presentation</dc:title>
</cp:coreProperties>
</file>