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FEE2-3027-4684-ADA4-76CD1179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F99A-168C-436A-AC9A-B747969C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4A8B-7714-4CFC-80AB-64FDD11E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46E-6B0A-4B86-9263-776F28E8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D822-48E3-4756-BB74-8B12191D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2FA-D955-4F18-96C8-C505BF4E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60E-8554-4C0A-AB46-D7F57013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37C-1929-43B5-8AE4-2CE3BB0A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8AAB-6BEC-48D7-BD90-B002A489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7FB-30B9-41B4-A904-DB5FF971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8E2-8F40-4E30-9CA7-13869A41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25A-EE9D-488B-A3EB-2CCCE531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F638-5549-453A-9A12-8BA0D9EF0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ShockwaveFlash1"/>
          <p:cNvGraphicFramePr/>
          <p:nvPr/>
        </p:nvGraphicFramePr>
        <p:xfrm>
          <a:off x="914400" y="380880"/>
          <a:ext cx="723888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0880"/>
                    <a:ext cx="7238880" cy="5410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3:43:40Z</dcterms:created>
  <dc:creator>Nan Shastry</dc:creator>
  <dc:description/>
  <dc:language>en-US</dc:language>
  <cp:lastModifiedBy>Nan Shastry</cp:lastModifiedBy>
  <dcterms:modified xsi:type="dcterms:W3CDTF">2003-03-28T13:47:01Z</dcterms:modified>
  <cp:revision>1</cp:revision>
  <dc:subject/>
  <dc:title>PowerPoint Presentation</dc:title>
</cp:coreProperties>
</file>