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32C-61A8-400A-8564-67CAD6BC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7CD-236B-4487-BA25-E472F872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A8D-4B19-4049-86AC-F2CCE426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F4D-F50C-4FE1-81D9-9E329FE4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8C1-F065-46C4-907D-193A5732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526-1BB9-4AEA-B82C-4EF16239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A41-903F-4963-BB31-934F77D0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EFB-8BCA-4489-8FC0-BC49AA70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0E7-EFF6-4BA5-A5F0-9FA1E6C6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B44-0E3B-4203-92BE-2F183BB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2D8-9C8D-4CBA-9933-69A5E88A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798-CF94-400E-BF2A-60F4A010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1287-B13D-4313-A7F9-B1B183EA070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02F8-D096-412A-894C-0A98A4052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2000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Your Title He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ubtitle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60948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0948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E78-52F0-41C4-8E51-40D704CE29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B9380-C573-4037-B71B-CDC63FAB9A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3:06:48Z</dcterms:created>
  <dc:creator>Nan Shastry</dc:creator>
  <dc:description/>
  <dc:language>en-US</dc:language>
  <cp:lastModifiedBy>Nan Shastry</cp:lastModifiedBy>
  <dcterms:modified xsi:type="dcterms:W3CDTF">2002-12-04T13:10:42Z</dcterms:modified>
  <cp:revision>1</cp:revision>
  <dc:subject/>
  <dc:title>Your Title Here</dc:title>
</cp:coreProperties>
</file>