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48E5-2CA3-4377-A6F1-F365FA18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696-ADD8-4121-A881-ED3FCA15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65C-42D7-4725-A955-63D919D0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800-F900-4EF5-B0A6-27445E18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C06-3A43-45A9-97E8-04B9DB9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A73-D0E1-473A-BBBB-C76154F0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B58-7CC3-4FFF-8A99-4195C2AA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BAD-769C-486E-AADA-3C86104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246-5FB4-4820-A759-3D6FD851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E30-54D7-4B3C-9C3D-0D99396B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985-BD31-42B6-BEFC-6131D63A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BC4-A828-4D90-8AF0-EBD215D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5E84-2516-4CF6-A7FA-0ADE5286A6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8120" y="64008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18E-6806-44EE-8444-A6D76F162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Your Titl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Your Subtitl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50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CA5-8659-4BD5-8804-F9DC0F8001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70327-E79C-4760-9E40-33CD5212A0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3:06:48Z</dcterms:created>
  <dc:creator>Nan Shastry</dc:creator>
  <dc:description/>
  <dc:language>en-US</dc:language>
  <cp:lastModifiedBy>Nan Shastry</cp:lastModifiedBy>
  <dcterms:modified xsi:type="dcterms:W3CDTF">2002-12-04T13:29:54Z</dcterms:modified>
  <cp:revision>4</cp:revision>
  <dc:subject/>
  <dc:title>Your Title Here</dc:title>
</cp:coreProperties>
</file>