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A857-3404-467E-94A3-9656EA7E4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843C-B97F-444E-96F1-0EECAE8CF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95C8-D15D-4C66-A753-8AD5DBA17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9201-F5FE-40F9-940F-F22FEBE6D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6E9C-2E7B-4213-8402-D40429951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9DF7-9242-488D-ABEA-6C1E0BD25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6156-60C0-4360-B123-DE2BBF1C8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1455-B397-4039-99E5-EF14A509C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5A7D-6DF8-4396-8326-1604AFF07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F1C4-BC4C-4233-874E-1D1D190E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1DC5-5A9D-4EE4-B71E-4DA88973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51E3-E7B7-4050-9209-40C2BEB4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EE546-D230-42E4-8403-BF433A0E2E39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48120" y="640080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4AC7D-5ABF-430D-A3C6-2CA93DEDFD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5049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Your Title Her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7652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Your Subtitle 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ShockwaveFlash1"/>
          <p:cNvGraphicFramePr/>
          <p:nvPr/>
        </p:nvGraphicFramePr>
        <p:xfrm>
          <a:off x="2590920" y="304920"/>
          <a:ext cx="4267080" cy="30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304920"/>
                    <a:ext cx="4267080" cy="3047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brainybetty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9DB8-15C6-44AC-A74A-9E6843FCF1D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50B4BB-6D87-4E62-8405-7FD15B552A9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13:06:48Z</dcterms:created>
  <dc:creator>Nan Shastry</dc:creator>
  <dc:description/>
  <dc:language>en-US</dc:language>
  <cp:lastModifiedBy>Nan Shastry</cp:lastModifiedBy>
  <dcterms:modified xsi:type="dcterms:W3CDTF">2002-12-04T13:18:05Z</dcterms:modified>
  <cp:revision>2</cp:revision>
  <dc:subject/>
  <dc:title>Your Title Here</dc:title>
</cp:coreProperties>
</file>