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F69-BAF4-4BF6-935A-C47F8BA9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14F-05CD-4FF7-9482-C8FB67E4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036-BCEE-4D0A-BF39-81BD218B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8E6-28EA-48EC-AC8A-AE201008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3DF-AFD0-4C89-9A4F-A8C08BDE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1CA-3923-47D5-A341-91AB7D7E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252-BACF-4D6C-B0C0-721B1A8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26F-62D1-4DAF-952A-4B3277B4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3A2-109D-47F4-8A0C-AE4E9B1B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FF4-217E-43E6-8C5F-23608C4F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E63-E8FF-4C8C-A4A1-2151FA51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32D-371A-47DE-AFA1-9730BED2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3348-8BA1-49A2-9BD4-E451732F7DB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E853-5105-4B75-9AFF-C4E2D730B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itle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Subtitl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1523880" y="152280"/>
          <a:ext cx="6400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280"/>
                    <a:ext cx="6400800" cy="190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944-E2AA-4795-B7DB-1D985B68F6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194C1-061E-4D41-A2EA-3F5507E947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3:06:48Z</dcterms:created>
  <dc:creator>Nan Shastry</dc:creator>
  <dc:description/>
  <dc:language>en-US</dc:language>
  <cp:lastModifiedBy>Nan Shastry</cp:lastModifiedBy>
  <dcterms:modified xsi:type="dcterms:W3CDTF">2002-12-04T13:24:41Z</dcterms:modified>
  <cp:revision>3</cp:revision>
  <dc:subject/>
  <dc:title>Your Title Here</dc:title>
</cp:coreProperties>
</file>