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27B-618A-4934-ACFA-CE958706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81A-6A2F-4B7E-968D-C7C68516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6A9-B823-4EAF-891B-479F42C4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3B2-B755-4F95-88F6-8379ED66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F52-9951-4713-9E36-797C770E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C76-AA6E-4934-BB1F-65744DB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0EE-192E-49A8-A0CF-BC5ABA53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5E6-750F-4C6A-B00A-DCD02CA5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AEC-9C02-4ED3-9D67-66D5E577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E08-5958-4A7E-A588-CA44DDA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F9A-7B60-4BCE-800B-030575E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1C0-2229-43AC-9476-C07C3C0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C3D-32ED-4A71-8812-F48359E6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685800" y="609480"/>
          <a:ext cx="74660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46604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48:50Z</dcterms:created>
  <dc:creator>Nan Shastry</dc:creator>
  <dc:description/>
  <dc:language>en-US</dc:language>
  <cp:lastModifiedBy>Nan Shastry</cp:lastModifiedBy>
  <dcterms:modified xsi:type="dcterms:W3CDTF">2003-12-13T13:50:58Z</dcterms:modified>
  <cp:revision>1</cp:revision>
  <dc:subject/>
  <dc:title>Slide 1</dc:title>
</cp:coreProperties>
</file>