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FC9-44F3-4D68-9527-9828485B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57A-DFF3-4A67-ACB6-3710644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067-8735-4887-8C1E-824EBA8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9D1-3256-4ED5-943E-287F2020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F45-0738-42E8-B038-0DD5B20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D5D-288C-477D-AD7E-5DA34F98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E3C-A0DA-4DE7-8C5D-D931219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778-F558-4BFA-964A-C8EBD92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AEC-B64B-44BA-8D16-1EDCCD9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AC1-AB0D-43EE-9EF4-9012034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DBC-0D9D-4141-A6CA-FEDE303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15D-C3A3-4D38-BD8D-1C7DF899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9E1-0141-4B7C-9AD3-3314809C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533520" y="380880"/>
          <a:ext cx="7999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7999200" cy="434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4:02:40Z</dcterms:created>
  <dc:creator>Nan Shastry</dc:creator>
  <dc:description/>
  <dc:language>en-US</dc:language>
  <cp:lastModifiedBy>Nan Shastry</cp:lastModifiedBy>
  <dcterms:modified xsi:type="dcterms:W3CDTF">2003-12-13T14:04:24Z</dcterms:modified>
  <cp:revision>1</cp:revision>
  <dc:subject/>
  <dc:title>Slide 1</dc:title>
</cp:coreProperties>
</file>